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039-1B3C-4ECA-85D6-D212A391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166-EC2D-4ADC-9F70-914E1D6A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AA3-3CB7-495D-8CE2-94875DBE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AE3-F71B-4C6E-BEB8-05AC468F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999-5199-4D42-91EE-C2865986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037D-4124-4632-8B7D-B636117F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55E6-85A1-4BF4-AA6F-2688644F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0BFF-0783-43AB-9AC8-8331A1A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CD91-B044-418C-B4A5-58BCE10C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F7CC-338B-4E2A-A5CA-1AEB1A8A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040D-8128-4AF4-B064-162F4DA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E94-57CC-4E12-AECF-13C5F1A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8E9-441F-46AD-AE35-B1C9C03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558-C603-4368-B3A4-0B315E4E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3232-C76B-4DB4-B029-E1E7D6A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D77D-8DD6-4415-A9C3-4ACCAAF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9EB-8AF8-4D66-913E-C7E1D7E4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78A-5FB1-4B7F-8819-7CA0ABA0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097-0163-4F1E-B053-509971B4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5B5-16A1-4E73-AC80-1E5015DA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420-4E29-4287-AE82-E4AC015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7D6-EDFC-4C5A-9430-3759F55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AC0-532E-4759-AFC6-CA2F45C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4C2-3F2B-43C8-B058-AE2C2E1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0F9F-71A5-42B6-B738-674B5BB6F8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2B2D-DAD7-480D-BF08-DAF3DC24D5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alculate the gradient of a straight line from the co-ordinates of two points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calculate the length and the co-ordinates of the midpoint of a straight line segment from the co-ordinates of its en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estimate gradients of curves by drawing tan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842560" y="3357720"/>
            <a:ext cx="576360" cy="86328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istance between two coordin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195640" y="227628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789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ind the distance between (3, -2) and 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47640" y="3284640"/>
            <a:ext cx="144720" cy="142920"/>
            <a:chOff x="3347640" y="3284640"/>
            <a:chExt cx="144720" cy="142920"/>
          </a:xfrm>
        </p:grpSpPr>
        <p:sp>
          <p:nvSpPr>
            <p:cNvPr id="102" name=""/>
            <p:cNvSpPr/>
            <p:nvPr/>
          </p:nvSpPr>
          <p:spPr>
            <a:xfrm flipH="1">
              <a:off x="3347640" y="328464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8000" y="328464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71280" y="4149720"/>
            <a:ext cx="144720" cy="142920"/>
            <a:chOff x="2771280" y="4149720"/>
            <a:chExt cx="144720" cy="142920"/>
          </a:xfrm>
        </p:grpSpPr>
        <p:sp>
          <p:nvSpPr>
            <p:cNvPr id="105" name=""/>
            <p:cNvSpPr/>
            <p:nvPr/>
          </p:nvSpPr>
          <p:spPr>
            <a:xfrm flipH="1">
              <a:off x="2771280" y="414972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4149720"/>
              <a:ext cx="144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556000" y="45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27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43280" y="3357720"/>
            <a:ext cx="576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3645000"/>
            <a:ext cx="3889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formula fo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22920" y="1830240"/>
            <a:ext cx="98280" cy="23364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13593" y="5333"/>
                </a:moveTo>
                <a:cubicBezTo>
                  <a:pt x="13616" y="5280"/>
                  <a:pt x="13622" y="5263"/>
                  <a:pt x="13643" y="5234"/>
                </a:cubicBezTo>
                <a:cubicBezTo>
                  <a:pt x="13670" y="5196"/>
                  <a:pt x="13667" y="5182"/>
                  <a:pt x="13667" y="5135"/>
                </a:cubicBezTo>
                <a:cubicBezTo>
                  <a:pt x="13667" y="5107"/>
                  <a:pt x="13665" y="5096"/>
                  <a:pt x="13643" y="5085"/>
                </a:cubicBezTo>
                <a:cubicBezTo>
                  <a:pt x="13585" y="5131"/>
                  <a:pt x="13537" y="5170"/>
                  <a:pt x="13494" y="5234"/>
                </a:cubicBezTo>
                <a:cubicBezTo>
                  <a:pt x="13434" y="5323"/>
                  <a:pt x="13379" y="5419"/>
                  <a:pt x="13395" y="5531"/>
                </a:cubicBezTo>
                <a:cubicBezTo>
                  <a:pt x="13406" y="5613"/>
                  <a:pt x="13435" y="5702"/>
                  <a:pt x="13519" y="5730"/>
                </a:cubicBezTo>
                <a:cubicBezTo>
                  <a:pt x="13576" y="5749"/>
                  <a:pt x="13629" y="5708"/>
                  <a:pt x="13643" y="5655"/>
                </a:cubicBezTo>
                <a:cubicBezTo>
                  <a:pt x="13643" y="5606"/>
                  <a:pt x="13643" y="5589"/>
                  <a:pt x="13643" y="5556"/>
                </a:cubicBezTo>
                <a:cubicBezTo>
                  <a:pt x="13585" y="5556"/>
                  <a:pt x="13527" y="5556"/>
                  <a:pt x="13469" y="555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5040" y="1955880"/>
            <a:ext cx="11592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4015" y="5457"/>
                </a:moveTo>
                <a:cubicBezTo>
                  <a:pt x="14015" y="5465"/>
                  <a:pt x="14015" y="5474"/>
                  <a:pt x="14015" y="5482"/>
                </a:cubicBezTo>
                <a:cubicBezTo>
                  <a:pt x="14068" y="5482"/>
                  <a:pt x="14089" y="5466"/>
                  <a:pt x="14139" y="5457"/>
                </a:cubicBezTo>
                <a:cubicBezTo>
                  <a:pt x="14199" y="5446"/>
                  <a:pt x="14249" y="5432"/>
                  <a:pt x="14312" y="5432"/>
                </a:cubicBezTo>
                <a:cubicBezTo>
                  <a:pt x="14320" y="5432"/>
                  <a:pt x="14329" y="5432"/>
                  <a:pt x="14337" y="54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86240" y="183024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14684" y="5209"/>
                </a:moveTo>
                <a:cubicBezTo>
                  <a:pt x="14684" y="5161"/>
                  <a:pt x="14674" y="5151"/>
                  <a:pt x="14709" y="5135"/>
                </a:cubicBezTo>
                <a:cubicBezTo>
                  <a:pt x="14778" y="5103"/>
                  <a:pt x="14821" y="5058"/>
                  <a:pt x="14908" y="5085"/>
                </a:cubicBezTo>
                <a:cubicBezTo>
                  <a:pt x="14970" y="5105"/>
                  <a:pt x="15002" y="5151"/>
                  <a:pt x="15007" y="5209"/>
                </a:cubicBezTo>
                <a:cubicBezTo>
                  <a:pt x="15013" y="5285"/>
                  <a:pt x="14940" y="5303"/>
                  <a:pt x="14908" y="5358"/>
                </a:cubicBezTo>
                <a:cubicBezTo>
                  <a:pt x="14880" y="5408"/>
                  <a:pt x="14891" y="5415"/>
                  <a:pt x="14932" y="5457"/>
                </a:cubicBezTo>
                <a:cubicBezTo>
                  <a:pt x="14970" y="5495"/>
                  <a:pt x="15026" y="5508"/>
                  <a:pt x="15056" y="5556"/>
                </a:cubicBezTo>
                <a:cubicBezTo>
                  <a:pt x="15103" y="5631"/>
                  <a:pt x="15085" y="5636"/>
                  <a:pt x="15032" y="5680"/>
                </a:cubicBezTo>
                <a:cubicBezTo>
                  <a:pt x="14979" y="5724"/>
                  <a:pt x="14895" y="5711"/>
                  <a:pt x="14833" y="5680"/>
                </a:cubicBezTo>
                <a:cubicBezTo>
                  <a:pt x="14811" y="5658"/>
                  <a:pt x="14806" y="5649"/>
                  <a:pt x="14784" y="56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9080" y="191916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776" y="5358"/>
                </a:moveTo>
                <a:cubicBezTo>
                  <a:pt x="15776" y="5350"/>
                  <a:pt x="15776" y="5341"/>
                  <a:pt x="15776" y="5333"/>
                </a:cubicBezTo>
                <a:cubicBezTo>
                  <a:pt x="15723" y="5333"/>
                  <a:pt x="15706" y="5353"/>
                  <a:pt x="15652" y="5358"/>
                </a:cubicBezTo>
                <a:cubicBezTo>
                  <a:pt x="15620" y="5361"/>
                  <a:pt x="15586" y="5358"/>
                  <a:pt x="15553" y="5358"/>
                </a:cubicBezTo>
              </a:path>
              <a:path w="249" h="150">
                <a:moveTo>
                  <a:pt x="15801" y="5457"/>
                </a:moveTo>
                <a:cubicBezTo>
                  <a:pt x="15801" y="5465"/>
                  <a:pt x="15801" y="5474"/>
                  <a:pt x="15801" y="5482"/>
                </a:cubicBezTo>
                <a:cubicBezTo>
                  <a:pt x="15735" y="5482"/>
                  <a:pt x="15668" y="5482"/>
                  <a:pt x="15602" y="548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40280" y="1812960"/>
            <a:ext cx="125640" cy="231840"/>
          </a:xfrm>
          <a:custGeom>
            <a:avLst/>
            <a:gdLst/>
            <a:ahLst/>
            <a:rect l="l" t="t" r="r" b="b"/>
            <a:pathLst>
              <a:path w="349" h="646">
                <a:moveTo>
                  <a:pt x="16247" y="5135"/>
                </a:moveTo>
                <a:cubicBezTo>
                  <a:pt x="16201" y="5112"/>
                  <a:pt x="16287" y="5086"/>
                  <a:pt x="16321" y="5060"/>
                </a:cubicBezTo>
                <a:cubicBezTo>
                  <a:pt x="16346" y="5041"/>
                  <a:pt x="16410" y="5015"/>
                  <a:pt x="16446" y="5035"/>
                </a:cubicBezTo>
                <a:cubicBezTo>
                  <a:pt x="16477" y="5053"/>
                  <a:pt x="16483" y="5152"/>
                  <a:pt x="16470" y="5184"/>
                </a:cubicBezTo>
                <a:cubicBezTo>
                  <a:pt x="16452" y="5229"/>
                  <a:pt x="16358" y="5256"/>
                  <a:pt x="16321" y="5283"/>
                </a:cubicBezTo>
                <a:cubicBezTo>
                  <a:pt x="16290" y="5306"/>
                  <a:pt x="16280" y="5325"/>
                  <a:pt x="16272" y="5358"/>
                </a:cubicBezTo>
                <a:cubicBezTo>
                  <a:pt x="16331" y="5405"/>
                  <a:pt x="16403" y="5446"/>
                  <a:pt x="16470" y="5482"/>
                </a:cubicBezTo>
                <a:cubicBezTo>
                  <a:pt x="16537" y="5518"/>
                  <a:pt x="16564" y="5530"/>
                  <a:pt x="16570" y="5606"/>
                </a:cubicBezTo>
                <a:cubicBezTo>
                  <a:pt x="16574" y="5651"/>
                  <a:pt x="16508" y="5673"/>
                  <a:pt x="16470" y="5680"/>
                </a:cubicBezTo>
                <a:cubicBezTo>
                  <a:pt x="16394" y="5694"/>
                  <a:pt x="16318" y="5675"/>
                  <a:pt x="16247" y="565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160720"/>
            <a:ext cx="830520" cy="206280"/>
          </a:xfrm>
          <a:custGeom>
            <a:avLst/>
            <a:gdLst/>
            <a:ahLst/>
            <a:rect l="l" t="t" r="r" b="b"/>
            <a:pathLst>
              <a:path w="2308" h="571">
                <a:moveTo>
                  <a:pt x="13196" y="6251"/>
                </a:moveTo>
                <a:cubicBezTo>
                  <a:pt x="13153" y="6251"/>
                  <a:pt x="13136" y="6246"/>
                  <a:pt x="13122" y="6201"/>
                </a:cubicBezTo>
                <a:cubicBezTo>
                  <a:pt x="13109" y="6160"/>
                  <a:pt x="13149" y="6107"/>
                  <a:pt x="13171" y="6077"/>
                </a:cubicBezTo>
                <a:cubicBezTo>
                  <a:pt x="13201" y="6037"/>
                  <a:pt x="13294" y="5987"/>
                  <a:pt x="13345" y="6003"/>
                </a:cubicBezTo>
                <a:cubicBezTo>
                  <a:pt x="13409" y="6023"/>
                  <a:pt x="13395" y="6129"/>
                  <a:pt x="13395" y="6176"/>
                </a:cubicBezTo>
                <a:cubicBezTo>
                  <a:pt x="13395" y="6252"/>
                  <a:pt x="13365" y="6336"/>
                  <a:pt x="13320" y="6400"/>
                </a:cubicBezTo>
                <a:cubicBezTo>
                  <a:pt x="13294" y="6437"/>
                  <a:pt x="13240" y="6483"/>
                  <a:pt x="13221" y="6524"/>
                </a:cubicBezTo>
                <a:cubicBezTo>
                  <a:pt x="13221" y="6548"/>
                  <a:pt x="13221" y="6557"/>
                  <a:pt x="13221" y="6573"/>
                </a:cubicBezTo>
                <a:cubicBezTo>
                  <a:pt x="13289" y="6573"/>
                  <a:pt x="13340" y="6559"/>
                  <a:pt x="13395" y="6548"/>
                </a:cubicBezTo>
                <a:cubicBezTo>
                  <a:pt x="13446" y="6538"/>
                  <a:pt x="13516" y="6548"/>
                  <a:pt x="13568" y="6548"/>
                </a:cubicBezTo>
              </a:path>
              <a:path w="2308" h="571">
                <a:moveTo>
                  <a:pt x="13915" y="6350"/>
                </a:moveTo>
                <a:cubicBezTo>
                  <a:pt x="13907" y="6342"/>
                  <a:pt x="13899" y="6333"/>
                  <a:pt x="13891" y="6325"/>
                </a:cubicBezTo>
                <a:cubicBezTo>
                  <a:pt x="13965" y="6325"/>
                  <a:pt x="14019" y="6316"/>
                  <a:pt x="14089" y="6300"/>
                </a:cubicBezTo>
                <a:cubicBezTo>
                  <a:pt x="14126" y="6291"/>
                  <a:pt x="14174" y="6300"/>
                  <a:pt x="14213" y="6300"/>
                </a:cubicBezTo>
              </a:path>
              <a:path w="2308" h="571">
                <a:moveTo>
                  <a:pt x="14585" y="6226"/>
                </a:moveTo>
                <a:cubicBezTo>
                  <a:pt x="14585" y="6251"/>
                  <a:pt x="14585" y="6259"/>
                  <a:pt x="14560" y="6251"/>
                </a:cubicBezTo>
                <a:cubicBezTo>
                  <a:pt x="14628" y="6251"/>
                  <a:pt x="14676" y="6243"/>
                  <a:pt x="14734" y="6226"/>
                </a:cubicBezTo>
                <a:cubicBezTo>
                  <a:pt x="14759" y="6226"/>
                  <a:pt x="14767" y="6226"/>
                  <a:pt x="14784" y="6226"/>
                </a:cubicBezTo>
              </a:path>
              <a:path w="2308" h="571">
                <a:moveTo>
                  <a:pt x="14957" y="6152"/>
                </a:moveTo>
                <a:cubicBezTo>
                  <a:pt x="14950" y="6122"/>
                  <a:pt x="14939" y="6107"/>
                  <a:pt x="14932" y="6077"/>
                </a:cubicBezTo>
                <a:cubicBezTo>
                  <a:pt x="14974" y="6067"/>
                  <a:pt x="15014" y="6043"/>
                  <a:pt x="15056" y="6028"/>
                </a:cubicBezTo>
                <a:cubicBezTo>
                  <a:pt x="15108" y="6009"/>
                  <a:pt x="15186" y="5971"/>
                  <a:pt x="15230" y="6028"/>
                </a:cubicBezTo>
                <a:cubicBezTo>
                  <a:pt x="15279" y="6091"/>
                  <a:pt x="15249" y="6169"/>
                  <a:pt x="15205" y="6226"/>
                </a:cubicBezTo>
                <a:cubicBezTo>
                  <a:pt x="15150" y="6297"/>
                  <a:pt x="15111" y="6347"/>
                  <a:pt x="15081" y="6424"/>
                </a:cubicBezTo>
                <a:cubicBezTo>
                  <a:pt x="15065" y="6466"/>
                  <a:pt x="15034" y="6528"/>
                  <a:pt x="15106" y="6548"/>
                </a:cubicBezTo>
                <a:cubicBezTo>
                  <a:pt x="15198" y="6574"/>
                  <a:pt x="15332" y="6548"/>
                  <a:pt x="15429" y="654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2178000"/>
            <a:ext cx="376200" cy="260280"/>
          </a:xfrm>
          <a:custGeom>
            <a:avLst/>
            <a:gdLst/>
            <a:ahLst/>
            <a:rect l="l" t="t" r="r" b="b"/>
            <a:pathLst>
              <a:path w="1043" h="721">
                <a:moveTo>
                  <a:pt x="16098" y="6226"/>
                </a:moveTo>
                <a:cubicBezTo>
                  <a:pt x="16024" y="6226"/>
                  <a:pt x="15949" y="6226"/>
                  <a:pt x="15875" y="6226"/>
                </a:cubicBezTo>
              </a:path>
              <a:path w="1043" h="721">
                <a:moveTo>
                  <a:pt x="16073" y="6350"/>
                </a:moveTo>
                <a:cubicBezTo>
                  <a:pt x="16096" y="6373"/>
                  <a:pt x="16104" y="6377"/>
                  <a:pt x="16098" y="6400"/>
                </a:cubicBezTo>
                <a:cubicBezTo>
                  <a:pt x="16040" y="6400"/>
                  <a:pt x="15983" y="6400"/>
                  <a:pt x="15925" y="6400"/>
                </a:cubicBezTo>
              </a:path>
              <a:path w="1043" h="721">
                <a:moveTo>
                  <a:pt x="16470" y="6102"/>
                </a:moveTo>
                <a:cubicBezTo>
                  <a:pt x="16499" y="6073"/>
                  <a:pt x="16508" y="6061"/>
                  <a:pt x="16545" y="6052"/>
                </a:cubicBezTo>
                <a:cubicBezTo>
                  <a:pt x="16545" y="6109"/>
                  <a:pt x="16536" y="6173"/>
                  <a:pt x="16520" y="6226"/>
                </a:cubicBezTo>
                <a:cubicBezTo>
                  <a:pt x="16496" y="6305"/>
                  <a:pt x="16470" y="6338"/>
                  <a:pt x="16470" y="6424"/>
                </a:cubicBezTo>
                <a:cubicBezTo>
                  <a:pt x="16470" y="6487"/>
                  <a:pt x="16522" y="6474"/>
                  <a:pt x="16570" y="6474"/>
                </a:cubicBezTo>
                <a:cubicBezTo>
                  <a:pt x="16623" y="6474"/>
                  <a:pt x="16670" y="6468"/>
                  <a:pt x="16718" y="6449"/>
                </a:cubicBezTo>
                <a:cubicBezTo>
                  <a:pt x="16771" y="6428"/>
                  <a:pt x="16787" y="6424"/>
                  <a:pt x="16842" y="6424"/>
                </a:cubicBezTo>
                <a:cubicBezTo>
                  <a:pt x="16867" y="6424"/>
                  <a:pt x="16892" y="6424"/>
                  <a:pt x="16917" y="6424"/>
                </a:cubicBezTo>
              </a:path>
              <a:path w="1043" h="721">
                <a:moveTo>
                  <a:pt x="16768" y="6300"/>
                </a:moveTo>
                <a:cubicBezTo>
                  <a:pt x="16751" y="6300"/>
                  <a:pt x="16735" y="6300"/>
                  <a:pt x="16718" y="6300"/>
                </a:cubicBezTo>
                <a:cubicBezTo>
                  <a:pt x="16718" y="6428"/>
                  <a:pt x="16726" y="6548"/>
                  <a:pt x="16743" y="6672"/>
                </a:cubicBezTo>
                <a:cubicBezTo>
                  <a:pt x="16743" y="6722"/>
                  <a:pt x="16743" y="6739"/>
                  <a:pt x="16743" y="677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26040" y="2741760"/>
            <a:ext cx="401760" cy="2412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14362" y="8062"/>
                </a:moveTo>
                <a:cubicBezTo>
                  <a:pt x="14414" y="8062"/>
                  <a:pt x="14412" y="8064"/>
                  <a:pt x="14412" y="8012"/>
                </a:cubicBezTo>
                <a:cubicBezTo>
                  <a:pt x="14412" y="7987"/>
                  <a:pt x="14412" y="7963"/>
                  <a:pt x="14412" y="7938"/>
                </a:cubicBezTo>
                <a:cubicBezTo>
                  <a:pt x="14349" y="7950"/>
                  <a:pt x="14302" y="7981"/>
                  <a:pt x="14263" y="8037"/>
                </a:cubicBezTo>
                <a:cubicBezTo>
                  <a:pt x="14209" y="8114"/>
                  <a:pt x="14245" y="8204"/>
                  <a:pt x="14312" y="8260"/>
                </a:cubicBezTo>
                <a:cubicBezTo>
                  <a:pt x="14413" y="8344"/>
                  <a:pt x="14450" y="8234"/>
                  <a:pt x="14486" y="8161"/>
                </a:cubicBezTo>
                <a:cubicBezTo>
                  <a:pt x="14555" y="8020"/>
                  <a:pt x="14560" y="7918"/>
                  <a:pt x="14560" y="7764"/>
                </a:cubicBezTo>
                <a:cubicBezTo>
                  <a:pt x="14560" y="7695"/>
                  <a:pt x="14567" y="7668"/>
                  <a:pt x="14536" y="7615"/>
                </a:cubicBezTo>
                <a:cubicBezTo>
                  <a:pt x="14520" y="7693"/>
                  <a:pt x="14498" y="7750"/>
                  <a:pt x="14511" y="7838"/>
                </a:cubicBezTo>
                <a:cubicBezTo>
                  <a:pt x="14528" y="7956"/>
                  <a:pt x="14568" y="8087"/>
                  <a:pt x="14635" y="8186"/>
                </a:cubicBezTo>
                <a:cubicBezTo>
                  <a:pt x="14643" y="8194"/>
                  <a:pt x="14652" y="8202"/>
                  <a:pt x="14660" y="8210"/>
                </a:cubicBezTo>
              </a:path>
              <a:path w="1117" h="671">
                <a:moveTo>
                  <a:pt x="14957" y="7789"/>
                </a:moveTo>
                <a:cubicBezTo>
                  <a:pt x="14924" y="7745"/>
                  <a:pt x="14929" y="7722"/>
                  <a:pt x="14982" y="7689"/>
                </a:cubicBezTo>
                <a:cubicBezTo>
                  <a:pt x="15028" y="7660"/>
                  <a:pt x="15076" y="7620"/>
                  <a:pt x="15131" y="7615"/>
                </a:cubicBezTo>
                <a:cubicBezTo>
                  <a:pt x="15207" y="7607"/>
                  <a:pt x="15174" y="7680"/>
                  <a:pt x="15156" y="7714"/>
                </a:cubicBezTo>
                <a:cubicBezTo>
                  <a:pt x="15123" y="7776"/>
                  <a:pt x="15087" y="7794"/>
                  <a:pt x="15081" y="7863"/>
                </a:cubicBezTo>
                <a:cubicBezTo>
                  <a:pt x="15076" y="7918"/>
                  <a:pt x="15098" y="7923"/>
                  <a:pt x="15156" y="7938"/>
                </a:cubicBezTo>
                <a:cubicBezTo>
                  <a:pt x="15223" y="7955"/>
                  <a:pt x="15294" y="7933"/>
                  <a:pt x="15354" y="79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70720" y="2867040"/>
            <a:ext cx="8064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5949" y="8012"/>
                </a:moveTo>
                <a:cubicBezTo>
                  <a:pt x="15972" y="7989"/>
                  <a:pt x="15980" y="7985"/>
                  <a:pt x="15974" y="7962"/>
                </a:cubicBezTo>
                <a:cubicBezTo>
                  <a:pt x="15927" y="7962"/>
                  <a:pt x="15895" y="7984"/>
                  <a:pt x="15850" y="7987"/>
                </a:cubicBezTo>
                <a:cubicBezTo>
                  <a:pt x="15799" y="7990"/>
                  <a:pt x="15794" y="8001"/>
                  <a:pt x="15751" y="8012"/>
                </a:cubicBezTo>
              </a:path>
              <a:path w="224" h="225">
                <a:moveTo>
                  <a:pt x="15925" y="8111"/>
                </a:moveTo>
                <a:cubicBezTo>
                  <a:pt x="15941" y="8119"/>
                  <a:pt x="15958" y="8128"/>
                  <a:pt x="15974" y="8136"/>
                </a:cubicBezTo>
                <a:cubicBezTo>
                  <a:pt x="15959" y="8197"/>
                  <a:pt x="15936" y="8186"/>
                  <a:pt x="15875" y="818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00840" y="2687760"/>
            <a:ext cx="982440" cy="322200"/>
          </a:xfrm>
          <a:custGeom>
            <a:avLst/>
            <a:gdLst/>
            <a:ahLst/>
            <a:rect l="l" t="t" r="r" b="b"/>
            <a:pathLst>
              <a:path w="2729" h="894">
                <a:moveTo>
                  <a:pt x="16743" y="7838"/>
                </a:moveTo>
                <a:cubicBezTo>
                  <a:pt x="16718" y="7838"/>
                  <a:pt x="16694" y="7838"/>
                  <a:pt x="16669" y="7838"/>
                </a:cubicBezTo>
                <a:cubicBezTo>
                  <a:pt x="16669" y="7786"/>
                  <a:pt x="16681" y="7776"/>
                  <a:pt x="16718" y="7739"/>
                </a:cubicBezTo>
                <a:cubicBezTo>
                  <a:pt x="16783" y="7673"/>
                  <a:pt x="16865" y="7596"/>
                  <a:pt x="16966" y="7615"/>
                </a:cubicBezTo>
                <a:cubicBezTo>
                  <a:pt x="17030" y="7627"/>
                  <a:pt x="17080" y="7701"/>
                  <a:pt x="17066" y="7764"/>
                </a:cubicBezTo>
                <a:cubicBezTo>
                  <a:pt x="17049" y="7840"/>
                  <a:pt x="16995" y="7894"/>
                  <a:pt x="16942" y="7938"/>
                </a:cubicBezTo>
                <a:cubicBezTo>
                  <a:pt x="16917" y="7962"/>
                  <a:pt x="16908" y="7970"/>
                  <a:pt x="16892" y="7987"/>
                </a:cubicBezTo>
                <a:cubicBezTo>
                  <a:pt x="16915" y="8034"/>
                  <a:pt x="16983" y="8063"/>
                  <a:pt x="17041" y="8086"/>
                </a:cubicBezTo>
                <a:cubicBezTo>
                  <a:pt x="17113" y="8114"/>
                  <a:pt x="17159" y="8123"/>
                  <a:pt x="17165" y="8210"/>
                </a:cubicBezTo>
                <a:cubicBezTo>
                  <a:pt x="17170" y="8290"/>
                  <a:pt x="17084" y="8302"/>
                  <a:pt x="17016" y="8285"/>
                </a:cubicBezTo>
                <a:cubicBezTo>
                  <a:pt x="16937" y="8265"/>
                  <a:pt x="16869" y="8248"/>
                  <a:pt x="16793" y="8210"/>
                </a:cubicBezTo>
              </a:path>
              <a:path w="2729" h="894">
                <a:moveTo>
                  <a:pt x="17438" y="7565"/>
                </a:moveTo>
                <a:cubicBezTo>
                  <a:pt x="17395" y="7509"/>
                  <a:pt x="17419" y="7520"/>
                  <a:pt x="17462" y="7491"/>
                </a:cubicBezTo>
                <a:cubicBezTo>
                  <a:pt x="17488" y="7473"/>
                  <a:pt x="17550" y="7445"/>
                  <a:pt x="17587" y="7466"/>
                </a:cubicBezTo>
                <a:cubicBezTo>
                  <a:pt x="17611" y="7480"/>
                  <a:pt x="17625" y="7539"/>
                  <a:pt x="17611" y="7565"/>
                </a:cubicBezTo>
                <a:cubicBezTo>
                  <a:pt x="17596" y="7592"/>
                  <a:pt x="17522" y="7656"/>
                  <a:pt x="17537" y="7689"/>
                </a:cubicBezTo>
                <a:cubicBezTo>
                  <a:pt x="17554" y="7727"/>
                  <a:pt x="17656" y="7726"/>
                  <a:pt x="17686" y="7714"/>
                </a:cubicBezTo>
                <a:cubicBezTo>
                  <a:pt x="17714" y="7686"/>
                  <a:pt x="17727" y="7677"/>
                  <a:pt x="17760" y="7689"/>
                </a:cubicBezTo>
              </a:path>
              <a:path w="2729" h="894">
                <a:moveTo>
                  <a:pt x="18331" y="8086"/>
                </a:moveTo>
                <a:cubicBezTo>
                  <a:pt x="18298" y="8039"/>
                  <a:pt x="18245" y="8080"/>
                  <a:pt x="18182" y="8062"/>
                </a:cubicBezTo>
                <a:cubicBezTo>
                  <a:pt x="18111" y="8042"/>
                  <a:pt x="18060" y="8037"/>
                  <a:pt x="17983" y="8037"/>
                </a:cubicBezTo>
              </a:path>
              <a:path w="2729" h="894">
                <a:moveTo>
                  <a:pt x="18058" y="7913"/>
                </a:moveTo>
                <a:cubicBezTo>
                  <a:pt x="18143" y="7913"/>
                  <a:pt x="18152" y="7923"/>
                  <a:pt x="18157" y="8012"/>
                </a:cubicBezTo>
                <a:cubicBezTo>
                  <a:pt x="18161" y="8078"/>
                  <a:pt x="18157" y="8144"/>
                  <a:pt x="18157" y="8210"/>
                </a:cubicBezTo>
              </a:path>
              <a:path w="2729" h="894">
                <a:moveTo>
                  <a:pt x="18579" y="7789"/>
                </a:moveTo>
                <a:cubicBezTo>
                  <a:pt x="18631" y="7806"/>
                  <a:pt x="18601" y="7865"/>
                  <a:pt x="18579" y="7913"/>
                </a:cubicBezTo>
                <a:cubicBezTo>
                  <a:pt x="18549" y="7980"/>
                  <a:pt x="18554" y="8038"/>
                  <a:pt x="18554" y="8111"/>
                </a:cubicBezTo>
                <a:cubicBezTo>
                  <a:pt x="18554" y="8171"/>
                  <a:pt x="18656" y="8183"/>
                  <a:pt x="18703" y="8186"/>
                </a:cubicBezTo>
                <a:cubicBezTo>
                  <a:pt x="18807" y="8192"/>
                  <a:pt x="18902" y="8195"/>
                  <a:pt x="19000" y="8210"/>
                </a:cubicBezTo>
                <a:cubicBezTo>
                  <a:pt x="19003" y="8210"/>
                  <a:pt x="19161" y="8214"/>
                  <a:pt x="19124" y="8186"/>
                </a:cubicBezTo>
                <a:cubicBezTo>
                  <a:pt x="19100" y="8186"/>
                  <a:pt x="19091" y="8186"/>
                  <a:pt x="19075" y="8186"/>
                </a:cubicBezTo>
              </a:path>
              <a:path w="2729" h="894">
                <a:moveTo>
                  <a:pt x="18901" y="8086"/>
                </a:moveTo>
                <a:cubicBezTo>
                  <a:pt x="18885" y="8078"/>
                  <a:pt x="18868" y="8070"/>
                  <a:pt x="18852" y="8062"/>
                </a:cubicBezTo>
                <a:cubicBezTo>
                  <a:pt x="18852" y="8161"/>
                  <a:pt x="18852" y="8260"/>
                  <a:pt x="18852" y="8359"/>
                </a:cubicBezTo>
              </a:path>
              <a:path w="2729" h="894">
                <a:moveTo>
                  <a:pt x="19199" y="7665"/>
                </a:moveTo>
                <a:cubicBezTo>
                  <a:pt x="19182" y="7657"/>
                  <a:pt x="19166" y="7648"/>
                  <a:pt x="19149" y="7640"/>
                </a:cubicBezTo>
                <a:cubicBezTo>
                  <a:pt x="19158" y="7612"/>
                  <a:pt x="19183" y="7593"/>
                  <a:pt x="19224" y="7590"/>
                </a:cubicBezTo>
                <a:cubicBezTo>
                  <a:pt x="19256" y="7588"/>
                  <a:pt x="19290" y="7590"/>
                  <a:pt x="19323" y="7590"/>
                </a:cubicBezTo>
                <a:cubicBezTo>
                  <a:pt x="19323" y="7648"/>
                  <a:pt x="19301" y="7667"/>
                  <a:pt x="19273" y="7714"/>
                </a:cubicBezTo>
                <a:cubicBezTo>
                  <a:pt x="19245" y="7761"/>
                  <a:pt x="19248" y="7787"/>
                  <a:pt x="19248" y="7838"/>
                </a:cubicBezTo>
                <a:cubicBezTo>
                  <a:pt x="19248" y="7846"/>
                  <a:pt x="19248" y="7855"/>
                  <a:pt x="19248" y="7863"/>
                </a:cubicBezTo>
                <a:cubicBezTo>
                  <a:pt x="19332" y="7863"/>
                  <a:pt x="19345" y="7876"/>
                  <a:pt x="19397" y="781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68960" y="308124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4709" y="9004"/>
                </a:moveTo>
                <a:cubicBezTo>
                  <a:pt x="14758" y="8931"/>
                  <a:pt x="14674" y="9007"/>
                  <a:pt x="14660" y="9029"/>
                </a:cubicBezTo>
                <a:cubicBezTo>
                  <a:pt x="14613" y="9103"/>
                  <a:pt x="14624" y="9137"/>
                  <a:pt x="14684" y="9178"/>
                </a:cubicBezTo>
                <a:cubicBezTo>
                  <a:pt x="14798" y="9150"/>
                  <a:pt x="14802" y="9094"/>
                  <a:pt x="14833" y="8979"/>
                </a:cubicBezTo>
                <a:cubicBezTo>
                  <a:pt x="14862" y="8871"/>
                  <a:pt x="14889" y="8694"/>
                  <a:pt x="14858" y="8582"/>
                </a:cubicBezTo>
                <a:cubicBezTo>
                  <a:pt x="14850" y="8574"/>
                  <a:pt x="14841" y="8566"/>
                  <a:pt x="14833" y="8558"/>
                </a:cubicBezTo>
                <a:cubicBezTo>
                  <a:pt x="14833" y="8686"/>
                  <a:pt x="14836" y="8808"/>
                  <a:pt x="14883" y="8930"/>
                </a:cubicBezTo>
                <a:cubicBezTo>
                  <a:pt x="14909" y="8997"/>
                  <a:pt x="14949" y="9064"/>
                  <a:pt x="14982" y="9128"/>
                </a:cubicBezTo>
              </a:path>
              <a:path w="1415" h="621">
                <a:moveTo>
                  <a:pt x="15180" y="8682"/>
                </a:moveTo>
                <a:cubicBezTo>
                  <a:pt x="15200" y="8643"/>
                  <a:pt x="15239" y="8631"/>
                  <a:pt x="15280" y="8607"/>
                </a:cubicBezTo>
                <a:cubicBezTo>
                  <a:pt x="15308" y="8591"/>
                  <a:pt x="15366" y="8538"/>
                  <a:pt x="15404" y="8558"/>
                </a:cubicBezTo>
                <a:cubicBezTo>
                  <a:pt x="15484" y="8601"/>
                  <a:pt x="15390" y="8666"/>
                  <a:pt x="15379" y="8706"/>
                </a:cubicBezTo>
                <a:cubicBezTo>
                  <a:pt x="15367" y="8750"/>
                  <a:pt x="15354" y="8784"/>
                  <a:pt x="15354" y="8830"/>
                </a:cubicBezTo>
                <a:cubicBezTo>
                  <a:pt x="15354" y="8894"/>
                  <a:pt x="15449" y="8843"/>
                  <a:pt x="15478" y="8830"/>
                </a:cubicBezTo>
              </a:path>
              <a:path w="1415" h="621">
                <a:moveTo>
                  <a:pt x="16049" y="8855"/>
                </a:moveTo>
                <a:cubicBezTo>
                  <a:pt x="16049" y="8830"/>
                  <a:pt x="16049" y="8822"/>
                  <a:pt x="16049" y="8806"/>
                </a:cubicBezTo>
                <a:cubicBezTo>
                  <a:pt x="16008" y="8806"/>
                  <a:pt x="15983" y="8815"/>
                  <a:pt x="15949" y="8830"/>
                </a:cubicBezTo>
                <a:cubicBezTo>
                  <a:pt x="15909" y="8850"/>
                  <a:pt x="15903" y="8859"/>
                  <a:pt x="15875" y="8855"/>
                </a:cubicBezTo>
              </a:path>
              <a:path w="1415" h="621">
                <a:moveTo>
                  <a:pt x="15999" y="8930"/>
                </a:moveTo>
                <a:cubicBezTo>
                  <a:pt x="16024" y="8930"/>
                  <a:pt x="16032" y="8930"/>
                  <a:pt x="16049" y="8930"/>
                </a:cubicBezTo>
                <a:cubicBezTo>
                  <a:pt x="16049" y="8982"/>
                  <a:pt x="16051" y="8979"/>
                  <a:pt x="15999" y="897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83200" y="308916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6644" y="8706"/>
                </a:moveTo>
                <a:cubicBezTo>
                  <a:pt x="16614" y="8706"/>
                  <a:pt x="16638" y="8691"/>
                  <a:pt x="16669" y="8657"/>
                </a:cubicBezTo>
                <a:cubicBezTo>
                  <a:pt x="16727" y="8593"/>
                  <a:pt x="16759" y="8582"/>
                  <a:pt x="16842" y="8582"/>
                </a:cubicBezTo>
                <a:cubicBezTo>
                  <a:pt x="16940" y="8582"/>
                  <a:pt x="16932" y="8701"/>
                  <a:pt x="16917" y="8781"/>
                </a:cubicBezTo>
                <a:cubicBezTo>
                  <a:pt x="16902" y="8864"/>
                  <a:pt x="16831" y="8928"/>
                  <a:pt x="16793" y="9004"/>
                </a:cubicBezTo>
                <a:cubicBezTo>
                  <a:pt x="16763" y="9064"/>
                  <a:pt x="16743" y="9101"/>
                  <a:pt x="16818" y="9128"/>
                </a:cubicBezTo>
                <a:cubicBezTo>
                  <a:pt x="16898" y="9157"/>
                  <a:pt x="16968" y="9093"/>
                  <a:pt x="17041" y="9079"/>
                </a:cubicBezTo>
                <a:cubicBezTo>
                  <a:pt x="17109" y="9066"/>
                  <a:pt x="17167" y="9054"/>
                  <a:pt x="17239" y="9054"/>
                </a:cubicBezTo>
                <a:cubicBezTo>
                  <a:pt x="17247" y="9054"/>
                  <a:pt x="17256" y="9054"/>
                  <a:pt x="17264" y="9054"/>
                </a:cubicBezTo>
              </a:path>
              <a:path w="1217" h="547">
                <a:moveTo>
                  <a:pt x="17462" y="8632"/>
                </a:moveTo>
                <a:cubicBezTo>
                  <a:pt x="17503" y="8612"/>
                  <a:pt x="17519" y="8614"/>
                  <a:pt x="17512" y="8582"/>
                </a:cubicBezTo>
                <a:cubicBezTo>
                  <a:pt x="17441" y="8582"/>
                  <a:pt x="17455" y="8601"/>
                  <a:pt x="17413" y="8657"/>
                </a:cubicBezTo>
                <a:cubicBezTo>
                  <a:pt x="17380" y="8701"/>
                  <a:pt x="17325" y="8759"/>
                  <a:pt x="17388" y="8806"/>
                </a:cubicBezTo>
                <a:cubicBezTo>
                  <a:pt x="17451" y="8853"/>
                  <a:pt x="17565" y="8869"/>
                  <a:pt x="17636" y="8880"/>
                </a:cubicBezTo>
                <a:cubicBezTo>
                  <a:pt x="17692" y="8889"/>
                  <a:pt x="17752" y="8885"/>
                  <a:pt x="17760" y="8954"/>
                </a:cubicBezTo>
                <a:cubicBezTo>
                  <a:pt x="17767" y="9018"/>
                  <a:pt x="17746" y="9025"/>
                  <a:pt x="17686" y="9029"/>
                </a:cubicBezTo>
                <a:cubicBezTo>
                  <a:pt x="17596" y="9034"/>
                  <a:pt x="17504" y="9029"/>
                  <a:pt x="17413" y="9029"/>
                </a:cubicBezTo>
              </a:path>
              <a:path w="1217" h="547">
                <a:moveTo>
                  <a:pt x="17810" y="8657"/>
                </a:moveTo>
                <a:cubicBezTo>
                  <a:pt x="17818" y="8632"/>
                  <a:pt x="17827" y="8607"/>
                  <a:pt x="17835" y="8582"/>
                </a:cubicBezTo>
                <a:cubicBezTo>
                  <a:pt x="17772" y="8582"/>
                  <a:pt x="17727" y="8604"/>
                  <a:pt x="17661" y="8607"/>
                </a:cubicBezTo>
                <a:cubicBezTo>
                  <a:pt x="17636" y="8607"/>
                  <a:pt x="17612" y="8607"/>
                  <a:pt x="17587" y="860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0" y="3419640"/>
            <a:ext cx="152280" cy="18864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5255" y="9723"/>
                </a:moveTo>
                <a:cubicBezTo>
                  <a:pt x="15255" y="9699"/>
                  <a:pt x="15255" y="9690"/>
                  <a:pt x="15255" y="9674"/>
                </a:cubicBezTo>
                <a:cubicBezTo>
                  <a:pt x="15203" y="9713"/>
                  <a:pt x="15189" y="9731"/>
                  <a:pt x="15156" y="9798"/>
                </a:cubicBezTo>
                <a:cubicBezTo>
                  <a:pt x="15118" y="9875"/>
                  <a:pt x="15129" y="9906"/>
                  <a:pt x="15180" y="9971"/>
                </a:cubicBezTo>
                <a:cubicBezTo>
                  <a:pt x="15287" y="9919"/>
                  <a:pt x="15291" y="9887"/>
                  <a:pt x="15329" y="9773"/>
                </a:cubicBezTo>
                <a:cubicBezTo>
                  <a:pt x="15338" y="9745"/>
                  <a:pt x="15391" y="9518"/>
                  <a:pt x="15379" y="9500"/>
                </a:cubicBezTo>
                <a:cubicBezTo>
                  <a:pt x="15371" y="9508"/>
                  <a:pt x="15362" y="9517"/>
                  <a:pt x="15354" y="9525"/>
                </a:cubicBezTo>
                <a:cubicBezTo>
                  <a:pt x="15354" y="9628"/>
                  <a:pt x="15371" y="9700"/>
                  <a:pt x="15404" y="9798"/>
                </a:cubicBezTo>
                <a:cubicBezTo>
                  <a:pt x="15436" y="9894"/>
                  <a:pt x="15482" y="9951"/>
                  <a:pt x="15553" y="100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05640" y="350028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5999" y="9748"/>
                </a:moveTo>
                <a:cubicBezTo>
                  <a:pt x="16007" y="9740"/>
                  <a:pt x="16016" y="9731"/>
                  <a:pt x="16024" y="9723"/>
                </a:cubicBezTo>
                <a:cubicBezTo>
                  <a:pt x="15966" y="9723"/>
                  <a:pt x="15908" y="9723"/>
                  <a:pt x="15850" y="9723"/>
                </a:cubicBezTo>
              </a:path>
              <a:path w="249" h="200">
                <a:moveTo>
                  <a:pt x="16049" y="9798"/>
                </a:moveTo>
                <a:cubicBezTo>
                  <a:pt x="16108" y="9838"/>
                  <a:pt x="16098" y="9830"/>
                  <a:pt x="16098" y="9897"/>
                </a:cubicBezTo>
                <a:cubicBezTo>
                  <a:pt x="16053" y="9908"/>
                  <a:pt x="16028" y="9922"/>
                  <a:pt x="15974" y="9922"/>
                </a:cubicBezTo>
                <a:cubicBezTo>
                  <a:pt x="15958" y="9922"/>
                  <a:pt x="15941" y="9922"/>
                  <a:pt x="15925" y="992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8920" y="3438360"/>
            <a:ext cx="187200" cy="1508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6570" y="9624"/>
                </a:moveTo>
                <a:cubicBezTo>
                  <a:pt x="16570" y="9608"/>
                  <a:pt x="16570" y="9591"/>
                  <a:pt x="16570" y="9575"/>
                </a:cubicBezTo>
                <a:cubicBezTo>
                  <a:pt x="16522" y="9612"/>
                  <a:pt x="16495" y="9612"/>
                  <a:pt x="16495" y="9674"/>
                </a:cubicBezTo>
                <a:cubicBezTo>
                  <a:pt x="16495" y="9764"/>
                  <a:pt x="16597" y="9767"/>
                  <a:pt x="16669" y="9798"/>
                </a:cubicBezTo>
                <a:cubicBezTo>
                  <a:pt x="16719" y="9820"/>
                  <a:pt x="16807" y="9847"/>
                  <a:pt x="16818" y="9897"/>
                </a:cubicBezTo>
                <a:cubicBezTo>
                  <a:pt x="16832" y="9962"/>
                  <a:pt x="16797" y="9967"/>
                  <a:pt x="16743" y="9971"/>
                </a:cubicBezTo>
                <a:cubicBezTo>
                  <a:pt x="16694" y="9975"/>
                  <a:pt x="16642" y="9971"/>
                  <a:pt x="16594" y="9971"/>
                </a:cubicBezTo>
              </a:path>
              <a:path w="522" h="422">
                <a:moveTo>
                  <a:pt x="16594" y="9624"/>
                </a:moveTo>
                <a:cubicBezTo>
                  <a:pt x="16675" y="9594"/>
                  <a:pt x="16754" y="9579"/>
                  <a:pt x="16842" y="9575"/>
                </a:cubicBezTo>
                <a:cubicBezTo>
                  <a:pt x="16910" y="9572"/>
                  <a:pt x="16953" y="9571"/>
                  <a:pt x="17016" y="95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3670200"/>
            <a:ext cx="20628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9947" y="10244"/>
                </a:moveTo>
                <a:cubicBezTo>
                  <a:pt x="9947" y="10203"/>
                  <a:pt x="9939" y="10187"/>
                  <a:pt x="9971" y="10195"/>
                </a:cubicBezTo>
                <a:cubicBezTo>
                  <a:pt x="9971" y="10268"/>
                  <a:pt x="9955" y="10323"/>
                  <a:pt x="9947" y="10393"/>
                </a:cubicBezTo>
                <a:cubicBezTo>
                  <a:pt x="9941" y="10447"/>
                  <a:pt x="9911" y="10567"/>
                  <a:pt x="9922" y="10616"/>
                </a:cubicBezTo>
                <a:cubicBezTo>
                  <a:pt x="9929" y="10647"/>
                  <a:pt x="9979" y="10728"/>
                  <a:pt x="10021" y="10716"/>
                </a:cubicBezTo>
                <a:cubicBezTo>
                  <a:pt x="10089" y="10696"/>
                  <a:pt x="10148" y="10670"/>
                  <a:pt x="10220" y="10666"/>
                </a:cubicBezTo>
                <a:cubicBezTo>
                  <a:pt x="10284" y="10662"/>
                  <a:pt x="10327" y="10641"/>
                  <a:pt x="10393" y="10641"/>
                </a:cubicBezTo>
                <a:cubicBezTo>
                  <a:pt x="10402" y="10641"/>
                  <a:pt x="10529" y="10637"/>
                  <a:pt x="10492" y="10666"/>
                </a:cubicBezTo>
                <a:cubicBezTo>
                  <a:pt x="10484" y="10666"/>
                  <a:pt x="10476" y="10666"/>
                  <a:pt x="10468" y="10666"/>
                </a:cubicBezTo>
              </a:path>
              <a:path w="571" h="770">
                <a:moveTo>
                  <a:pt x="10244" y="10592"/>
                </a:moveTo>
                <a:cubicBezTo>
                  <a:pt x="10236" y="10584"/>
                  <a:pt x="10228" y="10575"/>
                  <a:pt x="10220" y="10567"/>
                </a:cubicBezTo>
                <a:cubicBezTo>
                  <a:pt x="10220" y="10647"/>
                  <a:pt x="10233" y="10712"/>
                  <a:pt x="10244" y="10790"/>
                </a:cubicBezTo>
                <a:cubicBezTo>
                  <a:pt x="10253" y="10855"/>
                  <a:pt x="10267" y="10903"/>
                  <a:pt x="10294" y="1096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7920" y="4848120"/>
            <a:ext cx="2116080" cy="733680"/>
          </a:xfrm>
          <a:custGeom>
            <a:avLst/>
            <a:gdLst/>
            <a:ahLst/>
            <a:rect l="l" t="t" r="r" b="b"/>
            <a:pathLst>
              <a:path w="5880" h="2035">
                <a:moveTo>
                  <a:pt x="14387" y="14412"/>
                </a:moveTo>
                <a:cubicBezTo>
                  <a:pt x="14362" y="14412"/>
                  <a:pt x="14337" y="14412"/>
                  <a:pt x="14312" y="14412"/>
                </a:cubicBezTo>
                <a:cubicBezTo>
                  <a:pt x="14312" y="14357"/>
                  <a:pt x="14324" y="14329"/>
                  <a:pt x="14362" y="14288"/>
                </a:cubicBezTo>
                <a:cubicBezTo>
                  <a:pt x="14398" y="14249"/>
                  <a:pt x="14456" y="14222"/>
                  <a:pt x="14511" y="14238"/>
                </a:cubicBezTo>
                <a:cubicBezTo>
                  <a:pt x="14605" y="14266"/>
                  <a:pt x="14647" y="14373"/>
                  <a:pt x="14660" y="14461"/>
                </a:cubicBezTo>
                <a:cubicBezTo>
                  <a:pt x="14674" y="14556"/>
                  <a:pt x="14666" y="14654"/>
                  <a:pt x="14610" y="14734"/>
                </a:cubicBezTo>
                <a:cubicBezTo>
                  <a:pt x="14573" y="14788"/>
                  <a:pt x="14518" y="14784"/>
                  <a:pt x="14461" y="14784"/>
                </a:cubicBezTo>
                <a:cubicBezTo>
                  <a:pt x="14418" y="14784"/>
                  <a:pt x="14422" y="14783"/>
                  <a:pt x="14387" y="14808"/>
                </a:cubicBezTo>
              </a:path>
              <a:path w="5880" h="2035">
                <a:moveTo>
                  <a:pt x="14833" y="14312"/>
                </a:moveTo>
                <a:cubicBezTo>
                  <a:pt x="14858" y="14288"/>
                  <a:pt x="14867" y="14280"/>
                  <a:pt x="14883" y="14263"/>
                </a:cubicBezTo>
                <a:cubicBezTo>
                  <a:pt x="14839" y="14274"/>
                  <a:pt x="14818" y="14303"/>
                  <a:pt x="14784" y="14337"/>
                </a:cubicBezTo>
                <a:cubicBezTo>
                  <a:pt x="14717" y="14404"/>
                  <a:pt x="14688" y="14464"/>
                  <a:pt x="14684" y="14560"/>
                </a:cubicBezTo>
                <a:cubicBezTo>
                  <a:pt x="14681" y="14640"/>
                  <a:pt x="14731" y="14727"/>
                  <a:pt x="14808" y="14759"/>
                </a:cubicBezTo>
                <a:cubicBezTo>
                  <a:pt x="14869" y="14785"/>
                  <a:pt x="14913" y="14735"/>
                  <a:pt x="14957" y="14709"/>
                </a:cubicBezTo>
                <a:cubicBezTo>
                  <a:pt x="14974" y="14701"/>
                  <a:pt x="14990" y="14692"/>
                  <a:pt x="15007" y="14684"/>
                </a:cubicBezTo>
              </a:path>
              <a:path w="5880" h="2035">
                <a:moveTo>
                  <a:pt x="15354" y="14808"/>
                </a:moveTo>
                <a:cubicBezTo>
                  <a:pt x="15354" y="14849"/>
                  <a:pt x="15354" y="14891"/>
                  <a:pt x="15354" y="14932"/>
                </a:cubicBezTo>
              </a:path>
              <a:path w="5880" h="2035">
                <a:moveTo>
                  <a:pt x="15602" y="14610"/>
                </a:moveTo>
                <a:cubicBezTo>
                  <a:pt x="15594" y="14610"/>
                  <a:pt x="15585" y="14610"/>
                  <a:pt x="15577" y="14610"/>
                </a:cubicBezTo>
                <a:cubicBezTo>
                  <a:pt x="15577" y="14686"/>
                  <a:pt x="15581" y="14645"/>
                  <a:pt x="15627" y="14635"/>
                </a:cubicBezTo>
                <a:cubicBezTo>
                  <a:pt x="15672" y="14625"/>
                  <a:pt x="15732" y="14614"/>
                  <a:pt x="15776" y="14610"/>
                </a:cubicBezTo>
                <a:cubicBezTo>
                  <a:pt x="15784" y="14610"/>
                  <a:pt x="15793" y="14610"/>
                  <a:pt x="15801" y="14610"/>
                </a:cubicBezTo>
              </a:path>
              <a:path w="5880" h="2035">
                <a:moveTo>
                  <a:pt x="16148" y="14536"/>
                </a:moveTo>
                <a:cubicBezTo>
                  <a:pt x="16084" y="14597"/>
                  <a:pt x="16205" y="14495"/>
                  <a:pt x="16222" y="14486"/>
                </a:cubicBezTo>
                <a:cubicBezTo>
                  <a:pt x="16305" y="14442"/>
                  <a:pt x="16358" y="14507"/>
                  <a:pt x="16396" y="14585"/>
                </a:cubicBezTo>
                <a:cubicBezTo>
                  <a:pt x="16434" y="14664"/>
                  <a:pt x="16440" y="14782"/>
                  <a:pt x="16396" y="14858"/>
                </a:cubicBezTo>
                <a:cubicBezTo>
                  <a:pt x="16362" y="14917"/>
                  <a:pt x="16241" y="14875"/>
                  <a:pt x="16197" y="14858"/>
                </a:cubicBezTo>
                <a:cubicBezTo>
                  <a:pt x="16152" y="14841"/>
                  <a:pt x="16131" y="14816"/>
                  <a:pt x="16098" y="14784"/>
                </a:cubicBezTo>
              </a:path>
              <a:path w="5880" h="2035">
                <a:moveTo>
                  <a:pt x="16644" y="14585"/>
                </a:moveTo>
                <a:cubicBezTo>
                  <a:pt x="16693" y="14501"/>
                  <a:pt x="16712" y="14517"/>
                  <a:pt x="16644" y="14560"/>
                </a:cubicBezTo>
                <a:cubicBezTo>
                  <a:pt x="16579" y="14601"/>
                  <a:pt x="16529" y="14656"/>
                  <a:pt x="16520" y="14734"/>
                </a:cubicBezTo>
                <a:cubicBezTo>
                  <a:pt x="16514" y="14789"/>
                  <a:pt x="16547" y="14875"/>
                  <a:pt x="16594" y="14908"/>
                </a:cubicBezTo>
                <a:cubicBezTo>
                  <a:pt x="16642" y="14942"/>
                  <a:pt x="16689" y="14932"/>
                  <a:pt x="16743" y="14932"/>
                </a:cubicBezTo>
              </a:path>
              <a:path w="5880" h="2035">
                <a:moveTo>
                  <a:pt x="17016" y="14808"/>
                </a:moveTo>
                <a:cubicBezTo>
                  <a:pt x="17008" y="14800"/>
                  <a:pt x="16999" y="14792"/>
                  <a:pt x="16991" y="14784"/>
                </a:cubicBezTo>
                <a:cubicBezTo>
                  <a:pt x="17000" y="14758"/>
                  <a:pt x="17010" y="14736"/>
                  <a:pt x="17041" y="14734"/>
                </a:cubicBezTo>
                <a:cubicBezTo>
                  <a:pt x="17087" y="14730"/>
                  <a:pt x="17140" y="14688"/>
                  <a:pt x="17190" y="14709"/>
                </a:cubicBezTo>
                <a:cubicBezTo>
                  <a:pt x="17230" y="14726"/>
                  <a:pt x="17214" y="14802"/>
                  <a:pt x="17214" y="14833"/>
                </a:cubicBezTo>
                <a:cubicBezTo>
                  <a:pt x="17214" y="14878"/>
                  <a:pt x="17190" y="14910"/>
                  <a:pt x="17190" y="14957"/>
                </a:cubicBezTo>
                <a:cubicBezTo>
                  <a:pt x="17190" y="14965"/>
                  <a:pt x="17190" y="14974"/>
                  <a:pt x="17190" y="14982"/>
                </a:cubicBezTo>
                <a:cubicBezTo>
                  <a:pt x="17248" y="14982"/>
                  <a:pt x="17305" y="14982"/>
                  <a:pt x="17363" y="14982"/>
                </a:cubicBezTo>
              </a:path>
              <a:path w="5880" h="2035">
                <a:moveTo>
                  <a:pt x="17363" y="14362"/>
                </a:moveTo>
                <a:cubicBezTo>
                  <a:pt x="17403" y="14362"/>
                  <a:pt x="17339" y="14362"/>
                  <a:pt x="17438" y="14362"/>
                </a:cubicBezTo>
                <a:cubicBezTo>
                  <a:pt x="17473" y="14362"/>
                  <a:pt x="17612" y="14415"/>
                  <a:pt x="17636" y="14436"/>
                </a:cubicBezTo>
                <a:cubicBezTo>
                  <a:pt x="17733" y="14523"/>
                  <a:pt x="17772" y="14685"/>
                  <a:pt x="17785" y="14808"/>
                </a:cubicBezTo>
                <a:cubicBezTo>
                  <a:pt x="17797" y="14929"/>
                  <a:pt x="17790" y="15069"/>
                  <a:pt x="17735" y="15180"/>
                </a:cubicBezTo>
                <a:cubicBezTo>
                  <a:pt x="17691" y="15268"/>
                  <a:pt x="17617" y="15329"/>
                  <a:pt x="17537" y="15379"/>
                </a:cubicBezTo>
              </a:path>
              <a:path w="5880" h="2035">
                <a:moveTo>
                  <a:pt x="14139" y="13990"/>
                </a:moveTo>
                <a:cubicBezTo>
                  <a:pt x="14161" y="13967"/>
                  <a:pt x="14166" y="13959"/>
                  <a:pt x="14188" y="13965"/>
                </a:cubicBezTo>
                <a:cubicBezTo>
                  <a:pt x="14130" y="14024"/>
                  <a:pt x="14095" y="14060"/>
                  <a:pt x="14064" y="14139"/>
                </a:cubicBezTo>
                <a:cubicBezTo>
                  <a:pt x="14010" y="14279"/>
                  <a:pt x="14027" y="14467"/>
                  <a:pt x="14064" y="14610"/>
                </a:cubicBezTo>
                <a:cubicBezTo>
                  <a:pt x="14107" y="14778"/>
                  <a:pt x="14177" y="14948"/>
                  <a:pt x="14288" y="15081"/>
                </a:cubicBezTo>
              </a:path>
              <a:path w="5880" h="2035">
                <a:moveTo>
                  <a:pt x="17884" y="14337"/>
                </a:moveTo>
                <a:cubicBezTo>
                  <a:pt x="17859" y="14337"/>
                  <a:pt x="17835" y="14337"/>
                  <a:pt x="17810" y="14337"/>
                </a:cubicBezTo>
                <a:cubicBezTo>
                  <a:pt x="17810" y="14291"/>
                  <a:pt x="17804" y="14274"/>
                  <a:pt x="17835" y="14238"/>
                </a:cubicBezTo>
                <a:cubicBezTo>
                  <a:pt x="17867" y="14201"/>
                  <a:pt x="17909" y="14151"/>
                  <a:pt x="17959" y="14139"/>
                </a:cubicBezTo>
                <a:cubicBezTo>
                  <a:pt x="18027" y="14123"/>
                  <a:pt x="18090" y="14138"/>
                  <a:pt x="18107" y="14213"/>
                </a:cubicBezTo>
                <a:cubicBezTo>
                  <a:pt x="18122" y="14277"/>
                  <a:pt x="18117" y="14380"/>
                  <a:pt x="18083" y="14436"/>
                </a:cubicBezTo>
                <a:cubicBezTo>
                  <a:pt x="18067" y="14463"/>
                  <a:pt x="18030" y="14489"/>
                  <a:pt x="18008" y="14511"/>
                </a:cubicBezTo>
                <a:cubicBezTo>
                  <a:pt x="18058" y="14541"/>
                  <a:pt x="18095" y="14536"/>
                  <a:pt x="18157" y="14536"/>
                </a:cubicBezTo>
                <a:cubicBezTo>
                  <a:pt x="18216" y="14536"/>
                  <a:pt x="18242" y="14539"/>
                  <a:pt x="18281" y="14560"/>
                </a:cubicBezTo>
              </a:path>
              <a:path w="5880" h="2035">
                <a:moveTo>
                  <a:pt x="18852" y="15081"/>
                </a:moveTo>
                <a:cubicBezTo>
                  <a:pt x="18876" y="15081"/>
                  <a:pt x="18885" y="15081"/>
                  <a:pt x="18901" y="15081"/>
                </a:cubicBezTo>
                <a:cubicBezTo>
                  <a:pt x="18768" y="15081"/>
                  <a:pt x="18621" y="15067"/>
                  <a:pt x="18504" y="15106"/>
                </a:cubicBezTo>
                <a:cubicBezTo>
                  <a:pt x="18496" y="15106"/>
                  <a:pt x="18487" y="15106"/>
                  <a:pt x="18479" y="15106"/>
                </a:cubicBezTo>
              </a:path>
              <a:path w="5880" h="2035">
                <a:moveTo>
                  <a:pt x="18653" y="14982"/>
                </a:moveTo>
                <a:cubicBezTo>
                  <a:pt x="18653" y="14957"/>
                  <a:pt x="18653" y="14949"/>
                  <a:pt x="18678" y="14957"/>
                </a:cubicBezTo>
                <a:cubicBezTo>
                  <a:pt x="18678" y="15030"/>
                  <a:pt x="18657" y="15082"/>
                  <a:pt x="18653" y="15156"/>
                </a:cubicBezTo>
                <a:cubicBezTo>
                  <a:pt x="18650" y="15213"/>
                  <a:pt x="18651" y="15235"/>
                  <a:pt x="18678" y="15280"/>
                </a:cubicBezTo>
              </a:path>
              <a:path w="5880" h="2035">
                <a:moveTo>
                  <a:pt x="13395" y="13469"/>
                </a:moveTo>
                <a:cubicBezTo>
                  <a:pt x="13395" y="14106"/>
                  <a:pt x="13395" y="14742"/>
                  <a:pt x="13395" y="15379"/>
                </a:cubicBezTo>
                <a:cubicBezTo>
                  <a:pt x="13377" y="15356"/>
                  <a:pt x="13325" y="15296"/>
                  <a:pt x="13295" y="15255"/>
                </a:cubicBezTo>
                <a:cubicBezTo>
                  <a:pt x="13238" y="15177"/>
                  <a:pt x="13204" y="15091"/>
                  <a:pt x="13122" y="15032"/>
                </a:cubicBezTo>
                <a:cubicBezTo>
                  <a:pt x="13076" y="14999"/>
                  <a:pt x="13068" y="15013"/>
                  <a:pt x="13022" y="15007"/>
                </a:cubicBezTo>
              </a:path>
              <a:path w="5880" h="2035">
                <a:moveTo>
                  <a:pt x="13940" y="13618"/>
                </a:moveTo>
                <a:cubicBezTo>
                  <a:pt x="13965" y="13618"/>
                  <a:pt x="13973" y="13618"/>
                  <a:pt x="13965" y="13593"/>
                </a:cubicBezTo>
                <a:cubicBezTo>
                  <a:pt x="13949" y="13613"/>
                  <a:pt x="13933" y="13638"/>
                  <a:pt x="13915" y="13667"/>
                </a:cubicBezTo>
                <a:cubicBezTo>
                  <a:pt x="13890" y="13707"/>
                  <a:pt x="13857" y="13751"/>
                  <a:pt x="13841" y="13791"/>
                </a:cubicBezTo>
                <a:cubicBezTo>
                  <a:pt x="13826" y="13830"/>
                  <a:pt x="13827" y="13875"/>
                  <a:pt x="13816" y="13915"/>
                </a:cubicBezTo>
                <a:cubicBezTo>
                  <a:pt x="13805" y="13955"/>
                  <a:pt x="13775" y="14004"/>
                  <a:pt x="13767" y="14039"/>
                </a:cubicBezTo>
                <a:cubicBezTo>
                  <a:pt x="13753" y="14104"/>
                  <a:pt x="13749" y="14206"/>
                  <a:pt x="13742" y="14263"/>
                </a:cubicBezTo>
                <a:cubicBezTo>
                  <a:pt x="13726" y="14381"/>
                  <a:pt x="13749" y="14500"/>
                  <a:pt x="13767" y="14610"/>
                </a:cubicBezTo>
                <a:cubicBezTo>
                  <a:pt x="13778" y="14677"/>
                  <a:pt x="13774" y="14742"/>
                  <a:pt x="13791" y="14808"/>
                </a:cubicBezTo>
                <a:cubicBezTo>
                  <a:pt x="13805" y="14860"/>
                  <a:pt x="13838" y="14926"/>
                  <a:pt x="13866" y="14982"/>
                </a:cubicBezTo>
                <a:cubicBezTo>
                  <a:pt x="13927" y="15105"/>
                  <a:pt x="13990" y="15217"/>
                  <a:pt x="14064" y="15329"/>
                </a:cubicBezTo>
                <a:cubicBezTo>
                  <a:pt x="14100" y="15383"/>
                  <a:pt x="14145" y="15427"/>
                  <a:pt x="14188" y="15478"/>
                </a:cubicBezTo>
                <a:cubicBezTo>
                  <a:pt x="14213" y="15478"/>
                  <a:pt x="14221" y="15478"/>
                  <a:pt x="14213" y="1550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00920" y="5116680"/>
            <a:ext cx="1446120" cy="687240"/>
          </a:xfrm>
          <a:custGeom>
            <a:avLst/>
            <a:gdLst/>
            <a:ahLst/>
            <a:rect l="l" t="t" r="r" b="b"/>
            <a:pathLst>
              <a:path w="4019" h="1911">
                <a:moveTo>
                  <a:pt x="19794" y="14982"/>
                </a:moveTo>
                <a:cubicBezTo>
                  <a:pt x="19794" y="14957"/>
                  <a:pt x="19794" y="14949"/>
                  <a:pt x="19794" y="14932"/>
                </a:cubicBezTo>
                <a:cubicBezTo>
                  <a:pt x="19743" y="14932"/>
                  <a:pt x="19727" y="14958"/>
                  <a:pt x="19720" y="15007"/>
                </a:cubicBezTo>
                <a:cubicBezTo>
                  <a:pt x="19707" y="15092"/>
                  <a:pt x="19768" y="15224"/>
                  <a:pt x="19869" y="15156"/>
                </a:cubicBezTo>
                <a:cubicBezTo>
                  <a:pt x="19944" y="15106"/>
                  <a:pt x="19949" y="15018"/>
                  <a:pt x="20042" y="14982"/>
                </a:cubicBezTo>
                <a:cubicBezTo>
                  <a:pt x="20119" y="14952"/>
                  <a:pt x="20185" y="15222"/>
                  <a:pt x="20191" y="15255"/>
                </a:cubicBezTo>
                <a:cubicBezTo>
                  <a:pt x="20206" y="15339"/>
                  <a:pt x="20215" y="15506"/>
                  <a:pt x="20117" y="15553"/>
                </a:cubicBezTo>
                <a:cubicBezTo>
                  <a:pt x="20063" y="15579"/>
                  <a:pt x="19920" y="15554"/>
                  <a:pt x="19869" y="15528"/>
                </a:cubicBezTo>
                <a:cubicBezTo>
                  <a:pt x="19844" y="15503"/>
                  <a:pt x="19836" y="15495"/>
                  <a:pt x="19819" y="15478"/>
                </a:cubicBezTo>
              </a:path>
              <a:path w="4019" h="1911">
                <a:moveTo>
                  <a:pt x="20538" y="15329"/>
                </a:moveTo>
                <a:cubicBezTo>
                  <a:pt x="20538" y="15247"/>
                  <a:pt x="20538" y="15427"/>
                  <a:pt x="20538" y="15429"/>
                </a:cubicBezTo>
                <a:cubicBezTo>
                  <a:pt x="20538" y="15445"/>
                  <a:pt x="20538" y="15462"/>
                  <a:pt x="20538" y="15478"/>
                </a:cubicBezTo>
              </a:path>
              <a:path w="4019" h="1911">
                <a:moveTo>
                  <a:pt x="20762" y="15205"/>
                </a:moveTo>
                <a:cubicBezTo>
                  <a:pt x="20734" y="15205"/>
                  <a:pt x="20723" y="15203"/>
                  <a:pt x="20712" y="15180"/>
                </a:cubicBezTo>
                <a:cubicBezTo>
                  <a:pt x="20783" y="15180"/>
                  <a:pt x="20814" y="15159"/>
                  <a:pt x="20886" y="15156"/>
                </a:cubicBezTo>
                <a:cubicBezTo>
                  <a:pt x="20935" y="15154"/>
                  <a:pt x="20985" y="15156"/>
                  <a:pt x="21034" y="15156"/>
                </a:cubicBezTo>
              </a:path>
              <a:path w="4019" h="1911">
                <a:moveTo>
                  <a:pt x="21282" y="15081"/>
                </a:moveTo>
                <a:cubicBezTo>
                  <a:pt x="21282" y="15037"/>
                  <a:pt x="21285" y="15024"/>
                  <a:pt x="21258" y="15007"/>
                </a:cubicBezTo>
                <a:cubicBezTo>
                  <a:pt x="21247" y="15050"/>
                  <a:pt x="21229" y="15108"/>
                  <a:pt x="21258" y="15156"/>
                </a:cubicBezTo>
                <a:cubicBezTo>
                  <a:pt x="21304" y="15202"/>
                  <a:pt x="21316" y="15216"/>
                  <a:pt x="21357" y="15230"/>
                </a:cubicBezTo>
                <a:cubicBezTo>
                  <a:pt x="21424" y="15182"/>
                  <a:pt x="21455" y="15123"/>
                  <a:pt x="21506" y="15056"/>
                </a:cubicBezTo>
                <a:cubicBezTo>
                  <a:pt x="21514" y="15048"/>
                  <a:pt x="21522" y="15040"/>
                  <a:pt x="21530" y="15032"/>
                </a:cubicBezTo>
                <a:cubicBezTo>
                  <a:pt x="21635" y="15061"/>
                  <a:pt x="21626" y="15144"/>
                  <a:pt x="21630" y="15255"/>
                </a:cubicBezTo>
                <a:cubicBezTo>
                  <a:pt x="21633" y="15337"/>
                  <a:pt x="21650" y="15458"/>
                  <a:pt x="21555" y="15503"/>
                </a:cubicBezTo>
                <a:cubicBezTo>
                  <a:pt x="21506" y="15526"/>
                  <a:pt x="21375" y="15500"/>
                  <a:pt x="21332" y="15478"/>
                </a:cubicBezTo>
                <a:cubicBezTo>
                  <a:pt x="21282" y="15453"/>
                  <a:pt x="21258" y="15434"/>
                  <a:pt x="21258" y="15379"/>
                </a:cubicBezTo>
              </a:path>
              <a:path w="4019" h="1911">
                <a:moveTo>
                  <a:pt x="21878" y="15329"/>
                </a:moveTo>
                <a:cubicBezTo>
                  <a:pt x="21925" y="15329"/>
                  <a:pt x="21957" y="15307"/>
                  <a:pt x="22002" y="15304"/>
                </a:cubicBezTo>
                <a:cubicBezTo>
                  <a:pt x="22055" y="15300"/>
                  <a:pt x="22094" y="15295"/>
                  <a:pt x="22101" y="15354"/>
                </a:cubicBezTo>
                <a:cubicBezTo>
                  <a:pt x="22107" y="15406"/>
                  <a:pt x="22045" y="15412"/>
                  <a:pt x="22027" y="15453"/>
                </a:cubicBezTo>
                <a:cubicBezTo>
                  <a:pt x="22027" y="15481"/>
                  <a:pt x="22025" y="15492"/>
                  <a:pt x="22002" y="15503"/>
                </a:cubicBezTo>
                <a:cubicBezTo>
                  <a:pt x="22055" y="15503"/>
                  <a:pt x="22104" y="15495"/>
                  <a:pt x="22151" y="15478"/>
                </a:cubicBezTo>
                <a:cubicBezTo>
                  <a:pt x="22200" y="15453"/>
                  <a:pt x="22217" y="15445"/>
                  <a:pt x="22250" y="15429"/>
                </a:cubicBezTo>
              </a:path>
              <a:path w="4019" h="1911">
                <a:moveTo>
                  <a:pt x="22200" y="14784"/>
                </a:moveTo>
                <a:cubicBezTo>
                  <a:pt x="22220" y="14725"/>
                  <a:pt x="22257" y="14783"/>
                  <a:pt x="22299" y="14808"/>
                </a:cubicBezTo>
                <a:cubicBezTo>
                  <a:pt x="22391" y="14863"/>
                  <a:pt x="22447" y="14902"/>
                  <a:pt x="22498" y="15007"/>
                </a:cubicBezTo>
                <a:cubicBezTo>
                  <a:pt x="22541" y="15096"/>
                  <a:pt x="22540" y="15257"/>
                  <a:pt x="22523" y="15354"/>
                </a:cubicBezTo>
                <a:cubicBezTo>
                  <a:pt x="22507" y="15444"/>
                  <a:pt x="22458" y="15555"/>
                  <a:pt x="22374" y="15602"/>
                </a:cubicBezTo>
                <a:cubicBezTo>
                  <a:pt x="22349" y="15610"/>
                  <a:pt x="22324" y="15619"/>
                  <a:pt x="22299" y="15627"/>
                </a:cubicBezTo>
              </a:path>
              <a:path w="4019" h="1911">
                <a:moveTo>
                  <a:pt x="19596" y="14684"/>
                </a:moveTo>
                <a:cubicBezTo>
                  <a:pt x="19634" y="14647"/>
                  <a:pt x="19645" y="14638"/>
                  <a:pt x="19645" y="14585"/>
                </a:cubicBezTo>
                <a:cubicBezTo>
                  <a:pt x="19622" y="14597"/>
                  <a:pt x="19539" y="14676"/>
                  <a:pt x="19521" y="14709"/>
                </a:cubicBezTo>
                <a:cubicBezTo>
                  <a:pt x="19474" y="14795"/>
                  <a:pt x="19436" y="14935"/>
                  <a:pt x="19447" y="15032"/>
                </a:cubicBezTo>
                <a:cubicBezTo>
                  <a:pt x="19460" y="15149"/>
                  <a:pt x="19506" y="15293"/>
                  <a:pt x="19546" y="15404"/>
                </a:cubicBezTo>
                <a:cubicBezTo>
                  <a:pt x="19565" y="15457"/>
                  <a:pt x="19591" y="15508"/>
                  <a:pt x="19621" y="15553"/>
                </a:cubicBezTo>
              </a:path>
              <a:path w="4019" h="1911">
                <a:moveTo>
                  <a:pt x="22622" y="14635"/>
                </a:moveTo>
                <a:cubicBezTo>
                  <a:pt x="22613" y="14623"/>
                  <a:pt x="22571" y="14556"/>
                  <a:pt x="22597" y="14536"/>
                </a:cubicBezTo>
                <a:cubicBezTo>
                  <a:pt x="22617" y="14520"/>
                  <a:pt x="22691" y="14468"/>
                  <a:pt x="22721" y="14461"/>
                </a:cubicBezTo>
                <a:cubicBezTo>
                  <a:pt x="22769" y="14450"/>
                  <a:pt x="22823" y="14464"/>
                  <a:pt x="22845" y="14511"/>
                </a:cubicBezTo>
                <a:cubicBezTo>
                  <a:pt x="22891" y="14607"/>
                  <a:pt x="22862" y="14669"/>
                  <a:pt x="22820" y="14759"/>
                </a:cubicBezTo>
                <a:cubicBezTo>
                  <a:pt x="22798" y="14806"/>
                  <a:pt x="22777" y="14844"/>
                  <a:pt x="22746" y="14883"/>
                </a:cubicBezTo>
                <a:cubicBezTo>
                  <a:pt x="22811" y="14883"/>
                  <a:pt x="22857" y="14861"/>
                  <a:pt x="22920" y="14858"/>
                </a:cubicBezTo>
                <a:cubicBezTo>
                  <a:pt x="22988" y="14858"/>
                  <a:pt x="23007" y="14855"/>
                  <a:pt x="23044" y="14883"/>
                </a:cubicBezTo>
              </a:path>
              <a:path w="4019" h="1911">
                <a:moveTo>
                  <a:pt x="22870" y="14213"/>
                </a:moveTo>
                <a:cubicBezTo>
                  <a:pt x="22862" y="14213"/>
                  <a:pt x="22853" y="14213"/>
                  <a:pt x="22845" y="14213"/>
                </a:cubicBezTo>
                <a:cubicBezTo>
                  <a:pt x="22859" y="14238"/>
                  <a:pt x="22879" y="14277"/>
                  <a:pt x="22895" y="14288"/>
                </a:cubicBezTo>
                <a:cubicBezTo>
                  <a:pt x="22923" y="14308"/>
                  <a:pt x="22961" y="14337"/>
                  <a:pt x="22994" y="14362"/>
                </a:cubicBezTo>
                <a:cubicBezTo>
                  <a:pt x="23036" y="14393"/>
                  <a:pt x="23085" y="14418"/>
                  <a:pt x="23118" y="14461"/>
                </a:cubicBezTo>
                <a:cubicBezTo>
                  <a:pt x="23166" y="14523"/>
                  <a:pt x="23206" y="14589"/>
                  <a:pt x="23242" y="14660"/>
                </a:cubicBezTo>
                <a:cubicBezTo>
                  <a:pt x="23272" y="14720"/>
                  <a:pt x="23309" y="14777"/>
                  <a:pt x="23341" y="14833"/>
                </a:cubicBezTo>
                <a:cubicBezTo>
                  <a:pt x="23370" y="14884"/>
                  <a:pt x="23394" y="14951"/>
                  <a:pt x="23416" y="15007"/>
                </a:cubicBezTo>
                <a:cubicBezTo>
                  <a:pt x="23435" y="15057"/>
                  <a:pt x="23427" y="15101"/>
                  <a:pt x="23440" y="15156"/>
                </a:cubicBezTo>
                <a:cubicBezTo>
                  <a:pt x="23453" y="15211"/>
                  <a:pt x="23481" y="15268"/>
                  <a:pt x="23465" y="15329"/>
                </a:cubicBezTo>
                <a:cubicBezTo>
                  <a:pt x="23444" y="15409"/>
                  <a:pt x="23430" y="15476"/>
                  <a:pt x="23391" y="15553"/>
                </a:cubicBezTo>
                <a:cubicBezTo>
                  <a:pt x="23348" y="15639"/>
                  <a:pt x="23321" y="15747"/>
                  <a:pt x="23267" y="15825"/>
                </a:cubicBezTo>
                <a:cubicBezTo>
                  <a:pt x="23222" y="15891"/>
                  <a:pt x="23140" y="15991"/>
                  <a:pt x="23118" y="16073"/>
                </a:cubicBezTo>
                <a:cubicBezTo>
                  <a:pt x="23118" y="16098"/>
                  <a:pt x="23118" y="16106"/>
                  <a:pt x="23118" y="161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11960" y="4394160"/>
            <a:ext cx="9360" cy="1508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7835" y="12204"/>
                </a:moveTo>
                <a:cubicBezTo>
                  <a:pt x="17811" y="12419"/>
                  <a:pt x="17803" y="12484"/>
                  <a:pt x="17810" y="1262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17880" y="4276800"/>
            <a:ext cx="169920" cy="179280"/>
          </a:xfrm>
          <a:custGeom>
            <a:avLst/>
            <a:gdLst/>
            <a:ahLst/>
            <a:rect l="l" t="t" r="r" b="b"/>
            <a:pathLst>
              <a:path w="472" h="498">
                <a:moveTo>
                  <a:pt x="8409" y="12005"/>
                </a:moveTo>
                <a:cubicBezTo>
                  <a:pt x="8401" y="12005"/>
                  <a:pt x="8392" y="12005"/>
                  <a:pt x="8384" y="12005"/>
                </a:cubicBezTo>
                <a:cubicBezTo>
                  <a:pt x="8398" y="11963"/>
                  <a:pt x="8412" y="11969"/>
                  <a:pt x="8458" y="11931"/>
                </a:cubicBezTo>
                <a:cubicBezTo>
                  <a:pt x="8493" y="11902"/>
                  <a:pt x="8559" y="11884"/>
                  <a:pt x="8607" y="11881"/>
                </a:cubicBezTo>
                <a:cubicBezTo>
                  <a:pt x="8658" y="11878"/>
                  <a:pt x="8727" y="11878"/>
                  <a:pt x="8756" y="11931"/>
                </a:cubicBezTo>
                <a:cubicBezTo>
                  <a:pt x="8777" y="11969"/>
                  <a:pt x="8753" y="12072"/>
                  <a:pt x="8731" y="12105"/>
                </a:cubicBezTo>
                <a:cubicBezTo>
                  <a:pt x="8704" y="12145"/>
                  <a:pt x="8643" y="12168"/>
                  <a:pt x="8607" y="12204"/>
                </a:cubicBezTo>
                <a:cubicBezTo>
                  <a:pt x="8584" y="12227"/>
                  <a:pt x="8576" y="12231"/>
                  <a:pt x="8582" y="12254"/>
                </a:cubicBezTo>
                <a:cubicBezTo>
                  <a:pt x="8627" y="12265"/>
                  <a:pt x="8653" y="12278"/>
                  <a:pt x="8706" y="12278"/>
                </a:cubicBezTo>
                <a:cubicBezTo>
                  <a:pt x="8791" y="12278"/>
                  <a:pt x="8764" y="12298"/>
                  <a:pt x="8830" y="12328"/>
                </a:cubicBezTo>
                <a:cubicBezTo>
                  <a:pt x="8855" y="12328"/>
                  <a:pt x="8863" y="12328"/>
                  <a:pt x="8855" y="12353"/>
                </a:cubicBezTo>
                <a:cubicBezTo>
                  <a:pt x="8842" y="12393"/>
                  <a:pt x="8807" y="12378"/>
                  <a:pt x="8756" y="12378"/>
                </a:cubicBezTo>
                <a:cubicBezTo>
                  <a:pt x="8673" y="12378"/>
                  <a:pt x="8591" y="12378"/>
                  <a:pt x="8508" y="123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Midpoint of two coordin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95640" y="227628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789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find the midpoint between (3, -2) and 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374200" y="2887560"/>
            <a:ext cx="1082520" cy="156204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22440" y="2754360"/>
            <a:ext cx="271440" cy="258480"/>
            <a:chOff x="3322440" y="2754360"/>
            <a:chExt cx="271440" cy="258480"/>
          </a:xfrm>
        </p:grpSpPr>
        <p:sp>
          <p:nvSpPr>
            <p:cNvPr id="137" name=""/>
            <p:cNvSpPr/>
            <p:nvPr/>
          </p:nvSpPr>
          <p:spPr>
            <a:xfrm flipH="1">
              <a:off x="3322440" y="275436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2800" y="275436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39560" y="4319640"/>
            <a:ext cx="271440" cy="258480"/>
            <a:chOff x="2239560" y="4319640"/>
            <a:chExt cx="271440" cy="258480"/>
          </a:xfrm>
        </p:grpSpPr>
        <p:sp>
          <p:nvSpPr>
            <p:cNvPr id="140" name=""/>
            <p:cNvSpPr/>
            <p:nvPr/>
          </p:nvSpPr>
          <p:spPr>
            <a:xfrm flipH="1">
              <a:off x="2239560" y="431964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9920" y="4319640"/>
              <a:ext cx="2710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87280" y="4653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242100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74920" y="2887200"/>
            <a:ext cx="10825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47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35280" y="2924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71280" y="3573360"/>
            <a:ext cx="271440" cy="258480"/>
            <a:chOff x="2771280" y="3573360"/>
            <a:chExt cx="271440" cy="258480"/>
          </a:xfrm>
        </p:grpSpPr>
        <p:sp>
          <p:nvSpPr>
            <p:cNvPr id="148" name=""/>
            <p:cNvSpPr/>
            <p:nvPr/>
          </p:nvSpPr>
          <p:spPr>
            <a:xfrm flipH="1">
              <a:off x="2771280" y="3573360"/>
              <a:ext cx="271080" cy="258480"/>
            </a:xfrm>
            <a:prstGeom prst="line">
              <a:avLst/>
            </a:prstGeom>
            <a:ln w="572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1640" y="3573360"/>
              <a:ext cx="271080" cy="258480"/>
            </a:xfrm>
            <a:prstGeom prst="line">
              <a:avLst/>
            </a:prstGeom>
            <a:ln w="572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0036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4581360"/>
            <a:ext cx="576360" cy="0"/>
          </a:xfrm>
          <a:prstGeom prst="line">
            <a:avLst/>
          </a:prstGeom>
          <a:ln w="93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10560" y="3716280"/>
            <a:ext cx="505080" cy="758880"/>
          </a:xfrm>
          <a:prstGeom prst="rtTriangle">
            <a:avLst/>
          </a:prstGeom>
          <a:noFill/>
          <a:ln w="936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59280" y="3789000"/>
            <a:ext cx="0" cy="647640"/>
          </a:xfrm>
          <a:prstGeom prst="line">
            <a:avLst/>
          </a:prstGeom>
          <a:ln w="93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860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formula for mid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1, y1) (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5360" y="562608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400" y="15627"/>
                </a:moveTo>
                <a:cubicBezTo>
                  <a:pt x="6392" y="15627"/>
                  <a:pt x="6383" y="15627"/>
                  <a:pt x="6375" y="156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48120" y="1928880"/>
            <a:ext cx="1189080" cy="758880"/>
          </a:xfrm>
          <a:custGeom>
            <a:avLst/>
            <a:gdLst/>
            <a:ahLst/>
            <a:rect l="l" t="t" r="r" b="b"/>
            <a:pathLst>
              <a:path w="3300" h="2109">
                <a:moveTo>
                  <a:pt x="14064" y="5879"/>
                </a:moveTo>
                <a:cubicBezTo>
                  <a:pt x="14026" y="5892"/>
                  <a:pt x="14044" y="5904"/>
                  <a:pt x="13990" y="5904"/>
                </a:cubicBezTo>
                <a:cubicBezTo>
                  <a:pt x="13982" y="5904"/>
                  <a:pt x="13973" y="5904"/>
                  <a:pt x="13965" y="5904"/>
                </a:cubicBezTo>
                <a:cubicBezTo>
                  <a:pt x="13965" y="5826"/>
                  <a:pt x="13958" y="5817"/>
                  <a:pt x="14015" y="5755"/>
                </a:cubicBezTo>
                <a:cubicBezTo>
                  <a:pt x="14069" y="5695"/>
                  <a:pt x="14132" y="5648"/>
                  <a:pt x="14213" y="5631"/>
                </a:cubicBezTo>
                <a:cubicBezTo>
                  <a:pt x="14284" y="5617"/>
                  <a:pt x="14330" y="5673"/>
                  <a:pt x="14337" y="5730"/>
                </a:cubicBezTo>
                <a:cubicBezTo>
                  <a:pt x="14345" y="5803"/>
                  <a:pt x="14330" y="5867"/>
                  <a:pt x="14288" y="5928"/>
                </a:cubicBezTo>
                <a:cubicBezTo>
                  <a:pt x="14248" y="5986"/>
                  <a:pt x="14191" y="6013"/>
                  <a:pt x="14139" y="6052"/>
                </a:cubicBezTo>
                <a:cubicBezTo>
                  <a:pt x="14131" y="6060"/>
                  <a:pt x="14122" y="6069"/>
                  <a:pt x="14114" y="6077"/>
                </a:cubicBezTo>
                <a:cubicBezTo>
                  <a:pt x="14142" y="6134"/>
                  <a:pt x="14207" y="6137"/>
                  <a:pt x="14263" y="6176"/>
                </a:cubicBezTo>
                <a:cubicBezTo>
                  <a:pt x="14304" y="6204"/>
                  <a:pt x="14356" y="6225"/>
                  <a:pt x="14362" y="6276"/>
                </a:cubicBezTo>
                <a:cubicBezTo>
                  <a:pt x="14368" y="6328"/>
                  <a:pt x="14325" y="6325"/>
                  <a:pt x="14288" y="6325"/>
                </a:cubicBezTo>
                <a:cubicBezTo>
                  <a:pt x="14230" y="6325"/>
                  <a:pt x="14172" y="6325"/>
                  <a:pt x="14114" y="6325"/>
                </a:cubicBezTo>
              </a:path>
              <a:path w="3300" h="2109">
                <a:moveTo>
                  <a:pt x="15007" y="6052"/>
                </a:moveTo>
                <a:cubicBezTo>
                  <a:pt x="14952" y="6041"/>
                  <a:pt x="14917" y="6028"/>
                  <a:pt x="14858" y="6028"/>
                </a:cubicBezTo>
                <a:cubicBezTo>
                  <a:pt x="14800" y="6028"/>
                  <a:pt x="14742" y="6028"/>
                  <a:pt x="14684" y="6028"/>
                </a:cubicBezTo>
              </a:path>
              <a:path w="3300" h="2109">
                <a:moveTo>
                  <a:pt x="14808" y="5904"/>
                </a:moveTo>
                <a:cubicBezTo>
                  <a:pt x="14816" y="5896"/>
                  <a:pt x="14825" y="5887"/>
                  <a:pt x="14833" y="5879"/>
                </a:cubicBezTo>
                <a:cubicBezTo>
                  <a:pt x="14833" y="6003"/>
                  <a:pt x="14833" y="6127"/>
                  <a:pt x="14833" y="6251"/>
                </a:cubicBezTo>
              </a:path>
              <a:path w="3300" h="2109">
                <a:moveTo>
                  <a:pt x="15280" y="5755"/>
                </a:moveTo>
                <a:cubicBezTo>
                  <a:pt x="15331" y="5755"/>
                  <a:pt x="15333" y="5740"/>
                  <a:pt x="15354" y="5730"/>
                </a:cubicBezTo>
                <a:cubicBezTo>
                  <a:pt x="15362" y="5730"/>
                  <a:pt x="15371" y="5730"/>
                  <a:pt x="15379" y="5730"/>
                </a:cubicBezTo>
                <a:cubicBezTo>
                  <a:pt x="15366" y="5794"/>
                  <a:pt x="15327" y="5840"/>
                  <a:pt x="15304" y="5904"/>
                </a:cubicBezTo>
                <a:cubicBezTo>
                  <a:pt x="15275" y="5987"/>
                  <a:pt x="15261" y="6113"/>
                  <a:pt x="15280" y="6201"/>
                </a:cubicBezTo>
                <a:cubicBezTo>
                  <a:pt x="15298" y="6282"/>
                  <a:pt x="15351" y="6343"/>
                  <a:pt x="15429" y="6350"/>
                </a:cubicBezTo>
                <a:cubicBezTo>
                  <a:pt x="15542" y="6360"/>
                  <a:pt x="15557" y="6315"/>
                  <a:pt x="15602" y="6226"/>
                </a:cubicBezTo>
                <a:cubicBezTo>
                  <a:pt x="15622" y="6186"/>
                  <a:pt x="15631" y="6179"/>
                  <a:pt x="15627" y="6152"/>
                </a:cubicBezTo>
                <a:cubicBezTo>
                  <a:pt x="15577" y="6122"/>
                  <a:pt x="15540" y="6127"/>
                  <a:pt x="15478" y="6127"/>
                </a:cubicBezTo>
                <a:cubicBezTo>
                  <a:pt x="15429" y="6127"/>
                  <a:pt x="15412" y="6127"/>
                  <a:pt x="15379" y="6127"/>
                </a:cubicBezTo>
              </a:path>
              <a:path w="3300" h="2109">
                <a:moveTo>
                  <a:pt x="15776" y="6474"/>
                </a:moveTo>
                <a:cubicBezTo>
                  <a:pt x="15526" y="6474"/>
                  <a:pt x="15277" y="6471"/>
                  <a:pt x="15032" y="6449"/>
                </a:cubicBezTo>
                <a:cubicBezTo>
                  <a:pt x="14917" y="6439"/>
                  <a:pt x="14818" y="6459"/>
                  <a:pt x="14709" y="6474"/>
                </a:cubicBezTo>
                <a:cubicBezTo>
                  <a:pt x="14632" y="6485"/>
                  <a:pt x="14535" y="6479"/>
                  <a:pt x="14461" y="6499"/>
                </a:cubicBezTo>
                <a:cubicBezTo>
                  <a:pt x="14399" y="6515"/>
                  <a:pt x="14323" y="6505"/>
                  <a:pt x="14263" y="6524"/>
                </a:cubicBezTo>
                <a:cubicBezTo>
                  <a:pt x="14229" y="6535"/>
                  <a:pt x="14228" y="6543"/>
                  <a:pt x="14188" y="6548"/>
                </a:cubicBezTo>
              </a:path>
              <a:path w="3300" h="2109">
                <a:moveTo>
                  <a:pt x="14808" y="6821"/>
                </a:moveTo>
                <a:cubicBezTo>
                  <a:pt x="14767" y="6821"/>
                  <a:pt x="14759" y="6821"/>
                  <a:pt x="14734" y="6821"/>
                </a:cubicBezTo>
                <a:cubicBezTo>
                  <a:pt x="14749" y="6762"/>
                  <a:pt x="14781" y="6768"/>
                  <a:pt x="14833" y="6747"/>
                </a:cubicBezTo>
                <a:cubicBezTo>
                  <a:pt x="14911" y="6716"/>
                  <a:pt x="14941" y="6714"/>
                  <a:pt x="15007" y="6772"/>
                </a:cubicBezTo>
                <a:cubicBezTo>
                  <a:pt x="15065" y="6823"/>
                  <a:pt x="15023" y="6918"/>
                  <a:pt x="14982" y="6970"/>
                </a:cubicBezTo>
                <a:cubicBezTo>
                  <a:pt x="14950" y="7010"/>
                  <a:pt x="14897" y="7113"/>
                  <a:pt x="14858" y="7144"/>
                </a:cubicBezTo>
                <a:cubicBezTo>
                  <a:pt x="14833" y="7144"/>
                  <a:pt x="14825" y="7144"/>
                  <a:pt x="14833" y="7169"/>
                </a:cubicBezTo>
                <a:cubicBezTo>
                  <a:pt x="14919" y="7169"/>
                  <a:pt x="14970" y="7131"/>
                  <a:pt x="15056" y="7119"/>
                </a:cubicBezTo>
                <a:cubicBezTo>
                  <a:pt x="15174" y="7103"/>
                  <a:pt x="15273" y="7065"/>
                  <a:pt x="15379" y="7094"/>
                </a:cubicBezTo>
                <a:cubicBezTo>
                  <a:pt x="15387" y="7094"/>
                  <a:pt x="15396" y="7094"/>
                  <a:pt x="15404" y="7094"/>
                </a:cubicBezTo>
              </a:path>
              <a:path w="3300" h="2109">
                <a:moveTo>
                  <a:pt x="16644" y="6499"/>
                </a:moveTo>
                <a:cubicBezTo>
                  <a:pt x="16735" y="6508"/>
                  <a:pt x="16791" y="6531"/>
                  <a:pt x="16768" y="6648"/>
                </a:cubicBezTo>
                <a:cubicBezTo>
                  <a:pt x="16759" y="6694"/>
                  <a:pt x="16715" y="6754"/>
                  <a:pt x="16694" y="6796"/>
                </a:cubicBezTo>
              </a:path>
              <a:path w="3300" h="2109">
                <a:moveTo>
                  <a:pt x="13816" y="5407"/>
                </a:moveTo>
                <a:cubicBezTo>
                  <a:pt x="13816" y="5371"/>
                  <a:pt x="13854" y="5325"/>
                  <a:pt x="13791" y="5358"/>
                </a:cubicBezTo>
                <a:cubicBezTo>
                  <a:pt x="13717" y="5397"/>
                  <a:pt x="13693" y="5495"/>
                  <a:pt x="13667" y="5556"/>
                </a:cubicBezTo>
                <a:cubicBezTo>
                  <a:pt x="13631" y="5641"/>
                  <a:pt x="13596" y="5721"/>
                  <a:pt x="13568" y="5804"/>
                </a:cubicBezTo>
                <a:cubicBezTo>
                  <a:pt x="13544" y="5876"/>
                  <a:pt x="13542" y="5957"/>
                  <a:pt x="13519" y="6028"/>
                </a:cubicBezTo>
                <a:cubicBezTo>
                  <a:pt x="13499" y="6091"/>
                  <a:pt x="13472" y="6137"/>
                  <a:pt x="13469" y="6201"/>
                </a:cubicBezTo>
                <a:cubicBezTo>
                  <a:pt x="13464" y="6298"/>
                  <a:pt x="13482" y="6385"/>
                  <a:pt x="13494" y="6474"/>
                </a:cubicBezTo>
                <a:cubicBezTo>
                  <a:pt x="13506" y="6568"/>
                  <a:pt x="13536" y="6631"/>
                  <a:pt x="13568" y="6722"/>
                </a:cubicBezTo>
                <a:cubicBezTo>
                  <a:pt x="13600" y="6814"/>
                  <a:pt x="13636" y="6902"/>
                  <a:pt x="13667" y="6995"/>
                </a:cubicBezTo>
                <a:cubicBezTo>
                  <a:pt x="13698" y="7087"/>
                  <a:pt x="13754" y="7155"/>
                  <a:pt x="13791" y="7243"/>
                </a:cubicBezTo>
                <a:cubicBezTo>
                  <a:pt x="13823" y="7319"/>
                  <a:pt x="13863" y="7377"/>
                  <a:pt x="13915" y="7441"/>
                </a:cubicBezTo>
                <a:cubicBezTo>
                  <a:pt x="13923" y="7449"/>
                  <a:pt x="13932" y="7458"/>
                  <a:pt x="13940" y="746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88080" y="2009880"/>
            <a:ext cx="1268640" cy="652320"/>
          </a:xfrm>
          <a:custGeom>
            <a:avLst/>
            <a:gdLst/>
            <a:ahLst/>
            <a:rect l="l" t="t" r="r" b="b"/>
            <a:pathLst>
              <a:path w="3523" h="1812">
                <a:moveTo>
                  <a:pt x="18678" y="5779"/>
                </a:moveTo>
                <a:cubicBezTo>
                  <a:pt x="18621" y="5803"/>
                  <a:pt x="18616" y="5817"/>
                  <a:pt x="18579" y="5829"/>
                </a:cubicBezTo>
                <a:cubicBezTo>
                  <a:pt x="18579" y="5778"/>
                  <a:pt x="18581" y="5772"/>
                  <a:pt x="18604" y="5730"/>
                </a:cubicBezTo>
                <a:cubicBezTo>
                  <a:pt x="18641" y="5663"/>
                  <a:pt x="18716" y="5614"/>
                  <a:pt x="18802" y="5631"/>
                </a:cubicBezTo>
                <a:cubicBezTo>
                  <a:pt x="18902" y="5651"/>
                  <a:pt x="18912" y="5773"/>
                  <a:pt x="18901" y="5854"/>
                </a:cubicBezTo>
                <a:cubicBezTo>
                  <a:pt x="18887" y="5956"/>
                  <a:pt x="18823" y="6040"/>
                  <a:pt x="18777" y="6127"/>
                </a:cubicBezTo>
                <a:cubicBezTo>
                  <a:pt x="18751" y="6175"/>
                  <a:pt x="18715" y="6228"/>
                  <a:pt x="18703" y="6276"/>
                </a:cubicBezTo>
                <a:cubicBezTo>
                  <a:pt x="18777" y="6276"/>
                  <a:pt x="18829" y="6261"/>
                  <a:pt x="18901" y="6251"/>
                </a:cubicBezTo>
                <a:cubicBezTo>
                  <a:pt x="18973" y="6241"/>
                  <a:pt x="19051" y="6251"/>
                  <a:pt x="19124" y="6251"/>
                </a:cubicBezTo>
              </a:path>
              <a:path w="3523" h="1812">
                <a:moveTo>
                  <a:pt x="19695" y="6028"/>
                </a:moveTo>
                <a:cubicBezTo>
                  <a:pt x="19720" y="6028"/>
                  <a:pt x="19728" y="6028"/>
                  <a:pt x="19745" y="6028"/>
                </a:cubicBezTo>
                <a:cubicBezTo>
                  <a:pt x="19629" y="6028"/>
                  <a:pt x="19513" y="6028"/>
                  <a:pt x="19397" y="6028"/>
                </a:cubicBezTo>
              </a:path>
              <a:path w="3523" h="1812">
                <a:moveTo>
                  <a:pt x="19745" y="5879"/>
                </a:moveTo>
                <a:cubicBezTo>
                  <a:pt x="19737" y="5879"/>
                  <a:pt x="19728" y="5879"/>
                  <a:pt x="19720" y="5879"/>
                </a:cubicBezTo>
                <a:cubicBezTo>
                  <a:pt x="19704" y="5926"/>
                  <a:pt x="19695" y="5901"/>
                  <a:pt x="19695" y="5978"/>
                </a:cubicBezTo>
                <a:cubicBezTo>
                  <a:pt x="19695" y="6054"/>
                  <a:pt x="19686" y="6105"/>
                  <a:pt x="19670" y="6176"/>
                </a:cubicBezTo>
                <a:cubicBezTo>
                  <a:pt x="19670" y="6201"/>
                  <a:pt x="19670" y="6209"/>
                  <a:pt x="19670" y="6226"/>
                </a:cubicBezTo>
              </a:path>
              <a:path w="3523" h="1812">
                <a:moveTo>
                  <a:pt x="20092" y="6102"/>
                </a:moveTo>
                <a:cubicBezTo>
                  <a:pt x="20092" y="6110"/>
                  <a:pt x="20092" y="6119"/>
                  <a:pt x="20092" y="6127"/>
                </a:cubicBezTo>
                <a:cubicBezTo>
                  <a:pt x="20150" y="6127"/>
                  <a:pt x="20207" y="6127"/>
                  <a:pt x="20265" y="6127"/>
                </a:cubicBezTo>
              </a:path>
              <a:path w="3523" h="1812">
                <a:moveTo>
                  <a:pt x="20613" y="5953"/>
                </a:moveTo>
                <a:cubicBezTo>
                  <a:pt x="20600" y="5915"/>
                  <a:pt x="20588" y="5933"/>
                  <a:pt x="20588" y="5879"/>
                </a:cubicBezTo>
                <a:cubicBezTo>
                  <a:pt x="20588" y="5827"/>
                  <a:pt x="20646" y="5800"/>
                  <a:pt x="20687" y="5779"/>
                </a:cubicBezTo>
                <a:cubicBezTo>
                  <a:pt x="20737" y="5753"/>
                  <a:pt x="20801" y="5710"/>
                  <a:pt x="20861" y="5730"/>
                </a:cubicBezTo>
                <a:cubicBezTo>
                  <a:pt x="20936" y="5755"/>
                  <a:pt x="20956" y="5834"/>
                  <a:pt x="20960" y="5904"/>
                </a:cubicBezTo>
                <a:cubicBezTo>
                  <a:pt x="20965" y="5998"/>
                  <a:pt x="20908" y="6010"/>
                  <a:pt x="20861" y="6077"/>
                </a:cubicBezTo>
                <a:cubicBezTo>
                  <a:pt x="20839" y="6108"/>
                  <a:pt x="20777" y="6167"/>
                  <a:pt x="20762" y="6201"/>
                </a:cubicBezTo>
                <a:cubicBezTo>
                  <a:pt x="20762" y="6209"/>
                  <a:pt x="20762" y="6218"/>
                  <a:pt x="20762" y="6226"/>
                </a:cubicBezTo>
                <a:cubicBezTo>
                  <a:pt x="20806" y="6260"/>
                  <a:pt x="20851" y="6273"/>
                  <a:pt x="20910" y="6276"/>
                </a:cubicBezTo>
                <a:cubicBezTo>
                  <a:pt x="20993" y="6281"/>
                  <a:pt x="21056" y="6255"/>
                  <a:pt x="21134" y="6251"/>
                </a:cubicBezTo>
                <a:cubicBezTo>
                  <a:pt x="21175" y="6251"/>
                  <a:pt x="21183" y="6251"/>
                  <a:pt x="21208" y="6251"/>
                </a:cubicBezTo>
              </a:path>
              <a:path w="3523" h="1812">
                <a:moveTo>
                  <a:pt x="21258" y="6449"/>
                </a:moveTo>
                <a:cubicBezTo>
                  <a:pt x="21217" y="6449"/>
                  <a:pt x="21224" y="6449"/>
                  <a:pt x="21183" y="6449"/>
                </a:cubicBezTo>
                <a:cubicBezTo>
                  <a:pt x="21071" y="6449"/>
                  <a:pt x="20969" y="6436"/>
                  <a:pt x="20861" y="6424"/>
                </a:cubicBezTo>
                <a:cubicBezTo>
                  <a:pt x="20709" y="6407"/>
                  <a:pt x="20569" y="6375"/>
                  <a:pt x="20414" y="6375"/>
                </a:cubicBezTo>
                <a:cubicBezTo>
                  <a:pt x="20313" y="6375"/>
                  <a:pt x="20221" y="6350"/>
                  <a:pt x="20117" y="6350"/>
                </a:cubicBezTo>
                <a:cubicBezTo>
                  <a:pt x="20033" y="6350"/>
                  <a:pt x="19972" y="6329"/>
                  <a:pt x="19893" y="6325"/>
                </a:cubicBezTo>
                <a:cubicBezTo>
                  <a:pt x="19703" y="6314"/>
                  <a:pt x="19503" y="6320"/>
                  <a:pt x="19323" y="6350"/>
                </a:cubicBezTo>
                <a:cubicBezTo>
                  <a:pt x="19259" y="6361"/>
                  <a:pt x="19211" y="6361"/>
                  <a:pt x="19149" y="6375"/>
                </a:cubicBezTo>
                <a:cubicBezTo>
                  <a:pt x="19141" y="6375"/>
                  <a:pt x="19132" y="6375"/>
                  <a:pt x="19124" y="6375"/>
                </a:cubicBezTo>
              </a:path>
              <a:path w="3523" h="1812">
                <a:moveTo>
                  <a:pt x="19794" y="6821"/>
                </a:moveTo>
                <a:cubicBezTo>
                  <a:pt x="19737" y="6802"/>
                  <a:pt x="19712" y="6811"/>
                  <a:pt x="19720" y="6772"/>
                </a:cubicBezTo>
                <a:cubicBezTo>
                  <a:pt x="19765" y="6736"/>
                  <a:pt x="19834" y="6685"/>
                  <a:pt x="19893" y="6672"/>
                </a:cubicBezTo>
                <a:cubicBezTo>
                  <a:pt x="19948" y="6660"/>
                  <a:pt x="20026" y="6664"/>
                  <a:pt x="20067" y="6697"/>
                </a:cubicBezTo>
                <a:cubicBezTo>
                  <a:pt x="20146" y="6761"/>
                  <a:pt x="20051" y="6843"/>
                  <a:pt x="20017" y="6896"/>
                </a:cubicBezTo>
                <a:cubicBezTo>
                  <a:pt x="19976" y="6961"/>
                  <a:pt x="19917" y="7018"/>
                  <a:pt x="19893" y="7094"/>
                </a:cubicBezTo>
                <a:cubicBezTo>
                  <a:pt x="19893" y="7119"/>
                  <a:pt x="19893" y="7127"/>
                  <a:pt x="19893" y="7144"/>
                </a:cubicBezTo>
                <a:cubicBezTo>
                  <a:pt x="19958" y="7183"/>
                  <a:pt x="20037" y="7169"/>
                  <a:pt x="20117" y="7169"/>
                </a:cubicBezTo>
                <a:cubicBezTo>
                  <a:pt x="20191" y="7169"/>
                  <a:pt x="20266" y="7169"/>
                  <a:pt x="20340" y="7169"/>
                </a:cubicBezTo>
              </a:path>
              <a:path w="3523" h="1812">
                <a:moveTo>
                  <a:pt x="21605" y="5581"/>
                </a:moveTo>
                <a:cubicBezTo>
                  <a:pt x="21657" y="5581"/>
                  <a:pt x="21687" y="5593"/>
                  <a:pt x="21729" y="5606"/>
                </a:cubicBezTo>
                <a:cubicBezTo>
                  <a:pt x="21801" y="5628"/>
                  <a:pt x="21822" y="5651"/>
                  <a:pt x="21878" y="5705"/>
                </a:cubicBezTo>
                <a:cubicBezTo>
                  <a:pt x="21948" y="5772"/>
                  <a:pt x="21964" y="5817"/>
                  <a:pt x="22002" y="5904"/>
                </a:cubicBezTo>
                <a:cubicBezTo>
                  <a:pt x="22039" y="5989"/>
                  <a:pt x="22096" y="6060"/>
                  <a:pt x="22101" y="6152"/>
                </a:cubicBezTo>
                <a:cubicBezTo>
                  <a:pt x="22105" y="6217"/>
                  <a:pt x="22096" y="6291"/>
                  <a:pt x="22076" y="6350"/>
                </a:cubicBezTo>
                <a:cubicBezTo>
                  <a:pt x="22054" y="6417"/>
                  <a:pt x="22053" y="6512"/>
                  <a:pt x="22027" y="6573"/>
                </a:cubicBezTo>
                <a:cubicBezTo>
                  <a:pt x="22005" y="6625"/>
                  <a:pt x="21958" y="6696"/>
                  <a:pt x="21927" y="6747"/>
                </a:cubicBezTo>
                <a:cubicBezTo>
                  <a:pt x="21887" y="6813"/>
                  <a:pt x="21839" y="6876"/>
                  <a:pt x="21803" y="6945"/>
                </a:cubicBezTo>
                <a:cubicBezTo>
                  <a:pt x="21764" y="7020"/>
                  <a:pt x="21737" y="7058"/>
                  <a:pt x="21679" y="7119"/>
                </a:cubicBezTo>
                <a:cubicBezTo>
                  <a:pt x="21616" y="7184"/>
                  <a:pt x="21550" y="7238"/>
                  <a:pt x="21506" y="7317"/>
                </a:cubicBezTo>
                <a:cubicBezTo>
                  <a:pt x="21489" y="7347"/>
                  <a:pt x="21473" y="7362"/>
                  <a:pt x="21456" y="739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071880"/>
            <a:ext cx="13356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3395" y="8533"/>
                </a:moveTo>
                <a:cubicBezTo>
                  <a:pt x="13423" y="8533"/>
                  <a:pt x="13433" y="8536"/>
                  <a:pt x="13444" y="8558"/>
                </a:cubicBezTo>
                <a:cubicBezTo>
                  <a:pt x="13406" y="8529"/>
                  <a:pt x="13393" y="8533"/>
                  <a:pt x="13345" y="8533"/>
                </a:cubicBezTo>
                <a:cubicBezTo>
                  <a:pt x="13271" y="8533"/>
                  <a:pt x="13196" y="8533"/>
                  <a:pt x="13122" y="8533"/>
                </a:cubicBezTo>
              </a:path>
              <a:path w="373" h="199">
                <a:moveTo>
                  <a:pt x="13469" y="8632"/>
                </a:moveTo>
                <a:cubicBezTo>
                  <a:pt x="13490" y="8704"/>
                  <a:pt x="13480" y="8726"/>
                  <a:pt x="13395" y="8731"/>
                </a:cubicBezTo>
                <a:cubicBezTo>
                  <a:pt x="13354" y="8733"/>
                  <a:pt x="13312" y="8731"/>
                  <a:pt x="13271" y="873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2847960"/>
            <a:ext cx="785880" cy="509760"/>
          </a:xfrm>
          <a:custGeom>
            <a:avLst/>
            <a:gdLst/>
            <a:ahLst/>
            <a:rect l="l" t="t" r="r" b="b"/>
            <a:pathLst>
              <a:path w="2184" h="1415">
                <a:moveTo>
                  <a:pt x="14585" y="8359"/>
                </a:moveTo>
                <a:cubicBezTo>
                  <a:pt x="14585" y="8315"/>
                  <a:pt x="14582" y="8301"/>
                  <a:pt x="14610" y="8285"/>
                </a:cubicBezTo>
                <a:cubicBezTo>
                  <a:pt x="14610" y="8350"/>
                  <a:pt x="14599" y="8421"/>
                  <a:pt x="14585" y="8483"/>
                </a:cubicBezTo>
                <a:cubicBezTo>
                  <a:pt x="14567" y="8559"/>
                  <a:pt x="14535" y="8676"/>
                  <a:pt x="14560" y="8756"/>
                </a:cubicBezTo>
                <a:cubicBezTo>
                  <a:pt x="14580" y="8819"/>
                  <a:pt x="14687" y="8817"/>
                  <a:pt x="14734" y="8806"/>
                </a:cubicBezTo>
                <a:cubicBezTo>
                  <a:pt x="14819" y="8786"/>
                  <a:pt x="14862" y="8756"/>
                  <a:pt x="14957" y="8756"/>
                </a:cubicBezTo>
                <a:cubicBezTo>
                  <a:pt x="15005" y="8756"/>
                  <a:pt x="15046" y="8774"/>
                  <a:pt x="15056" y="8806"/>
                </a:cubicBezTo>
              </a:path>
              <a:path w="2184" h="1415">
                <a:moveTo>
                  <a:pt x="14808" y="8706"/>
                </a:moveTo>
                <a:cubicBezTo>
                  <a:pt x="14808" y="8698"/>
                  <a:pt x="14808" y="8690"/>
                  <a:pt x="14808" y="8682"/>
                </a:cubicBezTo>
                <a:cubicBezTo>
                  <a:pt x="14770" y="8708"/>
                  <a:pt x="14784" y="8770"/>
                  <a:pt x="14784" y="8830"/>
                </a:cubicBezTo>
                <a:cubicBezTo>
                  <a:pt x="14784" y="8871"/>
                  <a:pt x="14784" y="8913"/>
                  <a:pt x="14784" y="8954"/>
                </a:cubicBezTo>
              </a:path>
              <a:path w="2184" h="1415">
                <a:moveTo>
                  <a:pt x="15156" y="8855"/>
                </a:moveTo>
                <a:cubicBezTo>
                  <a:pt x="15180" y="8880"/>
                  <a:pt x="15188" y="8889"/>
                  <a:pt x="15205" y="8905"/>
                </a:cubicBezTo>
              </a:path>
              <a:path w="2184" h="1415">
                <a:moveTo>
                  <a:pt x="15553" y="8458"/>
                </a:moveTo>
                <a:cubicBezTo>
                  <a:pt x="15605" y="8458"/>
                  <a:pt x="15494" y="8486"/>
                  <a:pt x="15478" y="8533"/>
                </a:cubicBezTo>
                <a:cubicBezTo>
                  <a:pt x="15456" y="8599"/>
                  <a:pt x="15479" y="8652"/>
                  <a:pt x="15528" y="8682"/>
                </a:cubicBezTo>
                <a:cubicBezTo>
                  <a:pt x="15599" y="8726"/>
                  <a:pt x="15678" y="8724"/>
                  <a:pt x="15751" y="8756"/>
                </a:cubicBezTo>
                <a:cubicBezTo>
                  <a:pt x="15812" y="8783"/>
                  <a:pt x="15825" y="8794"/>
                  <a:pt x="15825" y="8855"/>
                </a:cubicBezTo>
                <a:cubicBezTo>
                  <a:pt x="15825" y="8915"/>
                  <a:pt x="15722" y="8918"/>
                  <a:pt x="15677" y="8905"/>
                </a:cubicBezTo>
                <a:cubicBezTo>
                  <a:pt x="15625" y="8890"/>
                  <a:pt x="15579" y="8874"/>
                  <a:pt x="15528" y="8855"/>
                </a:cubicBezTo>
              </a:path>
              <a:path w="2184" h="1415">
                <a:moveTo>
                  <a:pt x="15875" y="8458"/>
                </a:moveTo>
                <a:cubicBezTo>
                  <a:pt x="15875" y="8417"/>
                  <a:pt x="15875" y="8409"/>
                  <a:pt x="15875" y="8384"/>
                </a:cubicBezTo>
                <a:cubicBezTo>
                  <a:pt x="15799" y="8384"/>
                  <a:pt x="15749" y="8404"/>
                  <a:pt x="15677" y="8434"/>
                </a:cubicBezTo>
                <a:cubicBezTo>
                  <a:pt x="15633" y="8452"/>
                  <a:pt x="15598" y="8474"/>
                  <a:pt x="15553" y="8483"/>
                </a:cubicBezTo>
              </a:path>
              <a:path w="2184" h="1415">
                <a:moveTo>
                  <a:pt x="16346" y="9004"/>
                </a:moveTo>
                <a:cubicBezTo>
                  <a:pt x="16346" y="8996"/>
                  <a:pt x="16346" y="8987"/>
                  <a:pt x="16346" y="8979"/>
                </a:cubicBezTo>
                <a:cubicBezTo>
                  <a:pt x="16302" y="9024"/>
                  <a:pt x="16256" y="9077"/>
                  <a:pt x="16222" y="9128"/>
                </a:cubicBezTo>
                <a:cubicBezTo>
                  <a:pt x="16197" y="9178"/>
                  <a:pt x="16189" y="9194"/>
                  <a:pt x="16173" y="9227"/>
                </a:cubicBezTo>
              </a:path>
              <a:path w="2184" h="1415">
                <a:moveTo>
                  <a:pt x="14362" y="7987"/>
                </a:moveTo>
                <a:cubicBezTo>
                  <a:pt x="14371" y="7971"/>
                  <a:pt x="14451" y="7876"/>
                  <a:pt x="14387" y="7938"/>
                </a:cubicBezTo>
                <a:cubicBezTo>
                  <a:pt x="14356" y="7968"/>
                  <a:pt x="14283" y="8048"/>
                  <a:pt x="14263" y="8086"/>
                </a:cubicBezTo>
                <a:cubicBezTo>
                  <a:pt x="14209" y="8186"/>
                  <a:pt x="14173" y="8348"/>
                  <a:pt x="14163" y="8458"/>
                </a:cubicBezTo>
                <a:cubicBezTo>
                  <a:pt x="14147" y="8629"/>
                  <a:pt x="14166" y="8774"/>
                  <a:pt x="14213" y="8930"/>
                </a:cubicBezTo>
                <a:cubicBezTo>
                  <a:pt x="14249" y="9051"/>
                  <a:pt x="14279" y="9141"/>
                  <a:pt x="14337" y="9252"/>
                </a:cubicBezTo>
                <a:cubicBezTo>
                  <a:pt x="14374" y="9321"/>
                  <a:pt x="14388" y="9318"/>
                  <a:pt x="14461" y="93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2990880"/>
            <a:ext cx="250920" cy="304920"/>
          </a:xfrm>
          <a:custGeom>
            <a:avLst/>
            <a:gdLst/>
            <a:ahLst/>
            <a:rect l="l" t="t" r="r" b="b"/>
            <a:pathLst>
              <a:path w="695" h="844">
                <a:moveTo>
                  <a:pt x="16842" y="8558"/>
                </a:moveTo>
                <a:cubicBezTo>
                  <a:pt x="16832" y="8598"/>
                  <a:pt x="16833" y="8597"/>
                  <a:pt x="16793" y="8607"/>
                </a:cubicBezTo>
                <a:cubicBezTo>
                  <a:pt x="16793" y="8562"/>
                  <a:pt x="16800" y="8535"/>
                  <a:pt x="16842" y="8508"/>
                </a:cubicBezTo>
                <a:cubicBezTo>
                  <a:pt x="16928" y="8452"/>
                  <a:pt x="16966" y="8440"/>
                  <a:pt x="17041" y="8508"/>
                </a:cubicBezTo>
                <a:cubicBezTo>
                  <a:pt x="17134" y="8592"/>
                  <a:pt x="17115" y="8691"/>
                  <a:pt x="17115" y="8806"/>
                </a:cubicBezTo>
                <a:cubicBezTo>
                  <a:pt x="17115" y="8857"/>
                  <a:pt x="17114" y="8876"/>
                  <a:pt x="17090" y="8905"/>
                </a:cubicBezTo>
                <a:cubicBezTo>
                  <a:pt x="17004" y="8894"/>
                  <a:pt x="16957" y="8867"/>
                  <a:pt x="16892" y="8806"/>
                </a:cubicBezTo>
                <a:cubicBezTo>
                  <a:pt x="16833" y="8751"/>
                  <a:pt x="16811" y="8729"/>
                  <a:pt x="16793" y="8657"/>
                </a:cubicBezTo>
              </a:path>
              <a:path w="695" h="844">
                <a:moveTo>
                  <a:pt x="17041" y="8310"/>
                </a:moveTo>
                <a:cubicBezTo>
                  <a:pt x="17162" y="8310"/>
                  <a:pt x="17247" y="8314"/>
                  <a:pt x="17338" y="8409"/>
                </a:cubicBezTo>
                <a:cubicBezTo>
                  <a:pt x="17443" y="8519"/>
                  <a:pt x="17504" y="8652"/>
                  <a:pt x="17487" y="8806"/>
                </a:cubicBezTo>
                <a:cubicBezTo>
                  <a:pt x="17477" y="8900"/>
                  <a:pt x="17399" y="9052"/>
                  <a:pt x="17314" y="9103"/>
                </a:cubicBezTo>
                <a:cubicBezTo>
                  <a:pt x="17247" y="9125"/>
                  <a:pt x="17229" y="9130"/>
                  <a:pt x="17190" y="915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5840" y="4259160"/>
            <a:ext cx="642960" cy="795600"/>
          </a:xfrm>
          <a:custGeom>
            <a:avLst/>
            <a:gdLst/>
            <a:ahLst/>
            <a:rect l="l" t="t" r="r" b="b"/>
            <a:pathLst>
              <a:path w="1787" h="2208">
                <a:moveTo>
                  <a:pt x="7987" y="13519"/>
                </a:moveTo>
                <a:cubicBezTo>
                  <a:pt x="7987" y="13547"/>
                  <a:pt x="7990" y="13557"/>
                  <a:pt x="8012" y="13568"/>
                </a:cubicBezTo>
                <a:cubicBezTo>
                  <a:pt x="8012" y="13635"/>
                  <a:pt x="8012" y="13531"/>
                  <a:pt x="8012" y="13519"/>
                </a:cubicBezTo>
                <a:cubicBezTo>
                  <a:pt x="8012" y="13468"/>
                  <a:pt x="8037" y="13407"/>
                  <a:pt x="8086" y="13469"/>
                </a:cubicBezTo>
                <a:cubicBezTo>
                  <a:pt x="8152" y="13554"/>
                  <a:pt x="8195" y="13685"/>
                  <a:pt x="8210" y="13791"/>
                </a:cubicBezTo>
                <a:cubicBezTo>
                  <a:pt x="8221" y="13870"/>
                  <a:pt x="8213" y="13932"/>
                  <a:pt x="8161" y="13990"/>
                </a:cubicBezTo>
                <a:cubicBezTo>
                  <a:pt x="8138" y="14013"/>
                  <a:pt x="8134" y="14021"/>
                  <a:pt x="8111" y="14015"/>
                </a:cubicBezTo>
                <a:cubicBezTo>
                  <a:pt x="8056" y="13960"/>
                  <a:pt x="8001" y="13897"/>
                  <a:pt x="7987" y="13816"/>
                </a:cubicBezTo>
                <a:cubicBezTo>
                  <a:pt x="7976" y="13750"/>
                  <a:pt x="7974" y="13669"/>
                  <a:pt x="8012" y="13618"/>
                </a:cubicBezTo>
                <a:cubicBezTo>
                  <a:pt x="8085" y="13691"/>
                  <a:pt x="8118" y="13762"/>
                  <a:pt x="8136" y="13866"/>
                </a:cubicBezTo>
                <a:cubicBezTo>
                  <a:pt x="8147" y="13928"/>
                  <a:pt x="8147" y="13993"/>
                  <a:pt x="8111" y="14039"/>
                </a:cubicBezTo>
                <a:cubicBezTo>
                  <a:pt x="8041" y="14025"/>
                  <a:pt x="8002" y="13976"/>
                  <a:pt x="7962" y="13915"/>
                </a:cubicBezTo>
                <a:cubicBezTo>
                  <a:pt x="7947" y="13893"/>
                  <a:pt x="7882" y="13767"/>
                  <a:pt x="7913" y="13742"/>
                </a:cubicBezTo>
                <a:cubicBezTo>
                  <a:pt x="7921" y="13742"/>
                  <a:pt x="7930" y="13742"/>
                  <a:pt x="7938" y="13742"/>
                </a:cubicBezTo>
                <a:cubicBezTo>
                  <a:pt x="8012" y="13796"/>
                  <a:pt x="8032" y="13843"/>
                  <a:pt x="8037" y="13940"/>
                </a:cubicBezTo>
                <a:cubicBezTo>
                  <a:pt x="8037" y="13957"/>
                  <a:pt x="8037" y="13973"/>
                  <a:pt x="8037" y="13990"/>
                </a:cubicBezTo>
                <a:cubicBezTo>
                  <a:pt x="7985" y="13973"/>
                  <a:pt x="7969" y="13929"/>
                  <a:pt x="7938" y="13866"/>
                </a:cubicBezTo>
                <a:cubicBezTo>
                  <a:pt x="7912" y="13814"/>
                  <a:pt x="7894" y="13764"/>
                  <a:pt x="7863" y="13717"/>
                </a:cubicBezTo>
                <a:cubicBezTo>
                  <a:pt x="7891" y="13661"/>
                  <a:pt x="7924" y="13807"/>
                  <a:pt x="7938" y="13841"/>
                </a:cubicBezTo>
                <a:cubicBezTo>
                  <a:pt x="7962" y="13891"/>
                  <a:pt x="7970" y="13907"/>
                  <a:pt x="7987" y="13940"/>
                </a:cubicBezTo>
              </a:path>
              <a:path w="1787" h="2208">
                <a:moveTo>
                  <a:pt x="8582" y="13692"/>
                </a:moveTo>
                <a:cubicBezTo>
                  <a:pt x="8551" y="13692"/>
                  <a:pt x="8506" y="13690"/>
                  <a:pt x="8533" y="13643"/>
                </a:cubicBezTo>
                <a:cubicBezTo>
                  <a:pt x="8562" y="13591"/>
                  <a:pt x="8632" y="13568"/>
                  <a:pt x="8682" y="13543"/>
                </a:cubicBezTo>
                <a:cubicBezTo>
                  <a:pt x="8741" y="13514"/>
                  <a:pt x="8797" y="13504"/>
                  <a:pt x="8855" y="13543"/>
                </a:cubicBezTo>
                <a:cubicBezTo>
                  <a:pt x="8900" y="13573"/>
                  <a:pt x="8891" y="13681"/>
                  <a:pt x="8855" y="13717"/>
                </a:cubicBezTo>
                <a:cubicBezTo>
                  <a:pt x="8812" y="13760"/>
                  <a:pt x="8772" y="13778"/>
                  <a:pt x="8756" y="13841"/>
                </a:cubicBezTo>
                <a:cubicBezTo>
                  <a:pt x="8839" y="13841"/>
                  <a:pt x="8928" y="13827"/>
                  <a:pt x="9004" y="13866"/>
                </a:cubicBezTo>
                <a:cubicBezTo>
                  <a:pt x="9041" y="13884"/>
                  <a:pt x="9071" y="13931"/>
                  <a:pt x="9079" y="13965"/>
                </a:cubicBezTo>
                <a:cubicBezTo>
                  <a:pt x="9010" y="14021"/>
                  <a:pt x="8969" y="14015"/>
                  <a:pt x="8880" y="14015"/>
                </a:cubicBezTo>
                <a:cubicBezTo>
                  <a:pt x="8804" y="14015"/>
                  <a:pt x="8717" y="13995"/>
                  <a:pt x="8657" y="14039"/>
                </a:cubicBezTo>
              </a:path>
              <a:path w="1787" h="2208">
                <a:moveTo>
                  <a:pt x="7342" y="12526"/>
                </a:moveTo>
                <a:cubicBezTo>
                  <a:pt x="7386" y="12494"/>
                  <a:pt x="7408" y="12499"/>
                  <a:pt x="7441" y="12551"/>
                </a:cubicBezTo>
                <a:cubicBezTo>
                  <a:pt x="7470" y="12596"/>
                  <a:pt x="7518" y="12637"/>
                  <a:pt x="7491" y="12650"/>
                </a:cubicBezTo>
                <a:cubicBezTo>
                  <a:pt x="7474" y="12617"/>
                  <a:pt x="7423" y="12566"/>
                  <a:pt x="7392" y="12526"/>
                </a:cubicBezTo>
                <a:cubicBezTo>
                  <a:pt x="7372" y="12500"/>
                  <a:pt x="7318" y="12502"/>
                  <a:pt x="7367" y="12502"/>
                </a:cubicBezTo>
                <a:cubicBezTo>
                  <a:pt x="7442" y="12548"/>
                  <a:pt x="7522" y="12621"/>
                  <a:pt x="7565" y="12700"/>
                </a:cubicBezTo>
                <a:cubicBezTo>
                  <a:pt x="7584" y="12734"/>
                  <a:pt x="7606" y="12788"/>
                  <a:pt x="7615" y="12824"/>
                </a:cubicBezTo>
                <a:cubicBezTo>
                  <a:pt x="7564" y="12824"/>
                  <a:pt x="7534" y="12806"/>
                  <a:pt x="7491" y="12774"/>
                </a:cubicBezTo>
                <a:cubicBezTo>
                  <a:pt x="7447" y="12742"/>
                  <a:pt x="7448" y="12725"/>
                  <a:pt x="7392" y="12725"/>
                </a:cubicBezTo>
                <a:cubicBezTo>
                  <a:pt x="7425" y="12791"/>
                  <a:pt x="7458" y="12857"/>
                  <a:pt x="7491" y="12923"/>
                </a:cubicBezTo>
                <a:cubicBezTo>
                  <a:pt x="7515" y="12970"/>
                  <a:pt x="7516" y="12976"/>
                  <a:pt x="7516" y="13022"/>
                </a:cubicBezTo>
                <a:cubicBezTo>
                  <a:pt x="7469" y="12977"/>
                  <a:pt x="7432" y="12945"/>
                  <a:pt x="7392" y="12898"/>
                </a:cubicBezTo>
                <a:cubicBezTo>
                  <a:pt x="7367" y="12874"/>
                  <a:pt x="7358" y="12866"/>
                  <a:pt x="7342" y="12849"/>
                </a:cubicBezTo>
                <a:cubicBezTo>
                  <a:pt x="7354" y="12907"/>
                  <a:pt x="7382" y="12965"/>
                  <a:pt x="7392" y="13022"/>
                </a:cubicBezTo>
                <a:cubicBezTo>
                  <a:pt x="7392" y="13039"/>
                  <a:pt x="7392" y="13055"/>
                  <a:pt x="7392" y="13072"/>
                </a:cubicBezTo>
                <a:cubicBezTo>
                  <a:pt x="7381" y="13069"/>
                  <a:pt x="7265" y="12989"/>
                  <a:pt x="7293" y="13047"/>
                </a:cubicBezTo>
                <a:cubicBezTo>
                  <a:pt x="7301" y="13055"/>
                  <a:pt x="7309" y="13064"/>
                  <a:pt x="7317" y="13072"/>
                </a:cubicBezTo>
              </a:path>
              <a:path w="1787" h="2208">
                <a:moveTo>
                  <a:pt x="7665" y="11857"/>
                </a:moveTo>
                <a:cubicBezTo>
                  <a:pt x="7657" y="11849"/>
                  <a:pt x="7648" y="11840"/>
                  <a:pt x="7640" y="11832"/>
                </a:cubicBezTo>
                <a:cubicBezTo>
                  <a:pt x="7640" y="11885"/>
                  <a:pt x="7644" y="11959"/>
                  <a:pt x="7665" y="12005"/>
                </a:cubicBezTo>
                <a:cubicBezTo>
                  <a:pt x="7682" y="12042"/>
                  <a:pt x="7693" y="12070"/>
                  <a:pt x="7714" y="12105"/>
                </a:cubicBezTo>
              </a:path>
              <a:path w="1787" h="2208">
                <a:moveTo>
                  <a:pt x="7962" y="12129"/>
                </a:moveTo>
                <a:cubicBezTo>
                  <a:pt x="7904" y="12129"/>
                  <a:pt x="7909" y="12149"/>
                  <a:pt x="7863" y="12179"/>
                </a:cubicBezTo>
                <a:cubicBezTo>
                  <a:pt x="7819" y="12207"/>
                  <a:pt x="7783" y="12226"/>
                  <a:pt x="7739" y="12254"/>
                </a:cubicBezTo>
                <a:cubicBezTo>
                  <a:pt x="7710" y="12272"/>
                  <a:pt x="7644" y="12293"/>
                  <a:pt x="7615" y="12303"/>
                </a:cubicBezTo>
                <a:cubicBezTo>
                  <a:pt x="7607" y="12303"/>
                  <a:pt x="7598" y="12303"/>
                  <a:pt x="7590" y="12303"/>
                </a:cubicBezTo>
              </a:path>
              <a:path w="1787" h="2208">
                <a:moveTo>
                  <a:pt x="7317" y="12080"/>
                </a:moveTo>
                <a:cubicBezTo>
                  <a:pt x="7317" y="12044"/>
                  <a:pt x="7315" y="11956"/>
                  <a:pt x="7342" y="11981"/>
                </a:cubicBezTo>
                <a:cubicBezTo>
                  <a:pt x="7372" y="12008"/>
                  <a:pt x="7377" y="12140"/>
                  <a:pt x="7392" y="12179"/>
                </a:cubicBezTo>
                <a:cubicBezTo>
                  <a:pt x="7422" y="12258"/>
                  <a:pt x="7424" y="12328"/>
                  <a:pt x="7466" y="12402"/>
                </a:cubicBezTo>
                <a:cubicBezTo>
                  <a:pt x="7493" y="12450"/>
                  <a:pt x="7487" y="12463"/>
                  <a:pt x="7516" y="12502"/>
                </a:cubicBezTo>
              </a:path>
              <a:path w="1787" h="2208">
                <a:moveTo>
                  <a:pt x="7789" y="12353"/>
                </a:moveTo>
                <a:cubicBezTo>
                  <a:pt x="7795" y="12334"/>
                  <a:pt x="7832" y="12292"/>
                  <a:pt x="7863" y="12278"/>
                </a:cubicBezTo>
                <a:cubicBezTo>
                  <a:pt x="7887" y="12267"/>
                  <a:pt x="7953" y="12273"/>
                  <a:pt x="7962" y="12303"/>
                </a:cubicBezTo>
                <a:cubicBezTo>
                  <a:pt x="7975" y="12348"/>
                  <a:pt x="7953" y="12414"/>
                  <a:pt x="7938" y="12452"/>
                </a:cubicBezTo>
                <a:cubicBezTo>
                  <a:pt x="7918" y="12503"/>
                  <a:pt x="7913" y="12502"/>
                  <a:pt x="7913" y="12551"/>
                </a:cubicBezTo>
                <a:cubicBezTo>
                  <a:pt x="7963" y="12551"/>
                  <a:pt x="7992" y="12555"/>
                  <a:pt x="8037" y="12526"/>
                </a:cubicBezTo>
                <a:cubicBezTo>
                  <a:pt x="8073" y="12503"/>
                  <a:pt x="8093" y="12486"/>
                  <a:pt x="8136" y="1247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54320" y="4606920"/>
            <a:ext cx="1847880" cy="814320"/>
          </a:xfrm>
          <a:custGeom>
            <a:avLst/>
            <a:gdLst/>
            <a:ahLst/>
            <a:rect l="l" t="t" r="r" b="b"/>
            <a:pathLst>
              <a:path w="5136" h="2258">
                <a:moveTo>
                  <a:pt x="11609" y="14585"/>
                </a:moveTo>
                <a:cubicBezTo>
                  <a:pt x="11588" y="14089"/>
                  <a:pt x="11588" y="13989"/>
                  <a:pt x="11559" y="13692"/>
                </a:cubicBezTo>
              </a:path>
              <a:path w="5136" h="2258">
                <a:moveTo>
                  <a:pt x="12898" y="13543"/>
                </a:moveTo>
                <a:cubicBezTo>
                  <a:pt x="12857" y="13543"/>
                  <a:pt x="12815" y="13543"/>
                  <a:pt x="12774" y="13543"/>
                </a:cubicBezTo>
                <a:cubicBezTo>
                  <a:pt x="12787" y="13491"/>
                  <a:pt x="12828" y="13431"/>
                  <a:pt x="12874" y="13395"/>
                </a:cubicBezTo>
                <a:cubicBezTo>
                  <a:pt x="12975" y="13318"/>
                  <a:pt x="13063" y="13392"/>
                  <a:pt x="13122" y="13469"/>
                </a:cubicBezTo>
                <a:cubicBezTo>
                  <a:pt x="13198" y="13570"/>
                  <a:pt x="13254" y="13668"/>
                  <a:pt x="13196" y="13791"/>
                </a:cubicBezTo>
                <a:cubicBezTo>
                  <a:pt x="13165" y="13856"/>
                  <a:pt x="13042" y="13805"/>
                  <a:pt x="12998" y="13791"/>
                </a:cubicBezTo>
                <a:cubicBezTo>
                  <a:pt x="12973" y="13783"/>
                  <a:pt x="12948" y="13775"/>
                  <a:pt x="12923" y="13767"/>
                </a:cubicBezTo>
              </a:path>
              <a:path w="5136" h="2258">
                <a:moveTo>
                  <a:pt x="13419" y="13444"/>
                </a:moveTo>
                <a:cubicBezTo>
                  <a:pt x="13419" y="13419"/>
                  <a:pt x="13419" y="13395"/>
                  <a:pt x="13419" y="13370"/>
                </a:cubicBezTo>
                <a:cubicBezTo>
                  <a:pt x="13349" y="13427"/>
                  <a:pt x="13306" y="13473"/>
                  <a:pt x="13246" y="13543"/>
                </a:cubicBezTo>
                <a:cubicBezTo>
                  <a:pt x="13197" y="13600"/>
                  <a:pt x="13147" y="13717"/>
                  <a:pt x="13246" y="13767"/>
                </a:cubicBezTo>
                <a:cubicBezTo>
                  <a:pt x="13304" y="13767"/>
                  <a:pt x="13329" y="13767"/>
                  <a:pt x="13370" y="13767"/>
                </a:cubicBezTo>
              </a:path>
              <a:path w="5136" h="2258">
                <a:moveTo>
                  <a:pt x="13618" y="13717"/>
                </a:moveTo>
                <a:cubicBezTo>
                  <a:pt x="13618" y="13775"/>
                  <a:pt x="13618" y="13833"/>
                  <a:pt x="13618" y="13891"/>
                </a:cubicBezTo>
              </a:path>
              <a:path w="5136" h="2258">
                <a:moveTo>
                  <a:pt x="14139" y="13692"/>
                </a:moveTo>
                <a:cubicBezTo>
                  <a:pt x="14155" y="13684"/>
                  <a:pt x="14172" y="13675"/>
                  <a:pt x="14188" y="13667"/>
                </a:cubicBezTo>
                <a:cubicBezTo>
                  <a:pt x="14105" y="13667"/>
                  <a:pt x="14023" y="13667"/>
                  <a:pt x="13940" y="13667"/>
                </a:cubicBezTo>
              </a:path>
              <a:path w="5136" h="2258">
                <a:moveTo>
                  <a:pt x="13940" y="13568"/>
                </a:moveTo>
                <a:cubicBezTo>
                  <a:pt x="13957" y="13552"/>
                  <a:pt x="13973" y="13535"/>
                  <a:pt x="13990" y="13519"/>
                </a:cubicBezTo>
                <a:cubicBezTo>
                  <a:pt x="14044" y="13585"/>
                  <a:pt x="14061" y="13631"/>
                  <a:pt x="14064" y="13717"/>
                </a:cubicBezTo>
                <a:cubicBezTo>
                  <a:pt x="14064" y="13775"/>
                  <a:pt x="14064" y="13783"/>
                  <a:pt x="14064" y="13816"/>
                </a:cubicBezTo>
              </a:path>
              <a:path w="5136" h="2258">
                <a:moveTo>
                  <a:pt x="14436" y="13643"/>
                </a:moveTo>
                <a:cubicBezTo>
                  <a:pt x="14396" y="13623"/>
                  <a:pt x="14390" y="13614"/>
                  <a:pt x="14362" y="13618"/>
                </a:cubicBezTo>
                <a:cubicBezTo>
                  <a:pt x="14362" y="13545"/>
                  <a:pt x="14382" y="13563"/>
                  <a:pt x="14436" y="13519"/>
                </a:cubicBezTo>
                <a:cubicBezTo>
                  <a:pt x="14520" y="13450"/>
                  <a:pt x="14607" y="13449"/>
                  <a:pt x="14684" y="13543"/>
                </a:cubicBezTo>
                <a:cubicBezTo>
                  <a:pt x="14766" y="13643"/>
                  <a:pt x="14733" y="13731"/>
                  <a:pt x="14684" y="13816"/>
                </a:cubicBezTo>
                <a:cubicBezTo>
                  <a:pt x="14641" y="13891"/>
                  <a:pt x="14550" y="13915"/>
                  <a:pt x="14461" y="13891"/>
                </a:cubicBezTo>
                <a:cubicBezTo>
                  <a:pt x="14445" y="13883"/>
                  <a:pt x="14428" y="13874"/>
                  <a:pt x="14412" y="13866"/>
                </a:cubicBezTo>
              </a:path>
              <a:path w="5136" h="2258">
                <a:moveTo>
                  <a:pt x="14908" y="13519"/>
                </a:moveTo>
                <a:cubicBezTo>
                  <a:pt x="14908" y="13502"/>
                  <a:pt x="14908" y="13486"/>
                  <a:pt x="14908" y="13469"/>
                </a:cubicBezTo>
                <a:cubicBezTo>
                  <a:pt x="14848" y="13493"/>
                  <a:pt x="14785" y="13545"/>
                  <a:pt x="14734" y="13593"/>
                </a:cubicBezTo>
                <a:cubicBezTo>
                  <a:pt x="14688" y="13636"/>
                  <a:pt x="14613" y="13736"/>
                  <a:pt x="14684" y="13791"/>
                </a:cubicBezTo>
                <a:cubicBezTo>
                  <a:pt x="14746" y="13839"/>
                  <a:pt x="14858" y="13816"/>
                  <a:pt x="14932" y="13816"/>
                </a:cubicBezTo>
              </a:path>
              <a:path w="5136" h="2258">
                <a:moveTo>
                  <a:pt x="15131" y="13841"/>
                </a:moveTo>
                <a:cubicBezTo>
                  <a:pt x="15092" y="13789"/>
                  <a:pt x="15112" y="13787"/>
                  <a:pt x="15156" y="13742"/>
                </a:cubicBezTo>
                <a:cubicBezTo>
                  <a:pt x="15181" y="13716"/>
                  <a:pt x="15231" y="13695"/>
                  <a:pt x="15255" y="13742"/>
                </a:cubicBezTo>
                <a:cubicBezTo>
                  <a:pt x="15284" y="13800"/>
                  <a:pt x="15221" y="13843"/>
                  <a:pt x="15205" y="13891"/>
                </a:cubicBezTo>
                <a:cubicBezTo>
                  <a:pt x="15193" y="13925"/>
                  <a:pt x="15199" y="14006"/>
                  <a:pt x="15255" y="13990"/>
                </a:cubicBezTo>
                <a:cubicBezTo>
                  <a:pt x="15307" y="13975"/>
                  <a:pt x="15352" y="13959"/>
                  <a:pt x="15404" y="13940"/>
                </a:cubicBezTo>
              </a:path>
              <a:path w="5136" h="2258">
                <a:moveTo>
                  <a:pt x="15627" y="14188"/>
                </a:moveTo>
                <a:cubicBezTo>
                  <a:pt x="15569" y="14188"/>
                  <a:pt x="15560" y="14199"/>
                  <a:pt x="15503" y="14188"/>
                </a:cubicBezTo>
                <a:cubicBezTo>
                  <a:pt x="15385" y="14165"/>
                  <a:pt x="15279" y="14163"/>
                  <a:pt x="15156" y="14163"/>
                </a:cubicBezTo>
                <a:cubicBezTo>
                  <a:pt x="14948" y="14163"/>
                  <a:pt x="14745" y="14139"/>
                  <a:pt x="14536" y="14139"/>
                </a:cubicBezTo>
                <a:cubicBezTo>
                  <a:pt x="14298" y="14139"/>
                  <a:pt x="14076" y="14151"/>
                  <a:pt x="13841" y="14188"/>
                </a:cubicBezTo>
                <a:cubicBezTo>
                  <a:pt x="13674" y="14214"/>
                  <a:pt x="13513" y="14258"/>
                  <a:pt x="13345" y="14263"/>
                </a:cubicBezTo>
                <a:cubicBezTo>
                  <a:pt x="13237" y="14266"/>
                  <a:pt x="13151" y="14298"/>
                  <a:pt x="13047" y="14312"/>
                </a:cubicBezTo>
                <a:cubicBezTo>
                  <a:pt x="13002" y="14318"/>
                  <a:pt x="12942" y="14321"/>
                  <a:pt x="12898" y="14337"/>
                </a:cubicBezTo>
                <a:cubicBezTo>
                  <a:pt x="12890" y="14345"/>
                  <a:pt x="12882" y="14354"/>
                  <a:pt x="12874" y="14362"/>
                </a:cubicBezTo>
              </a:path>
              <a:path w="5136" h="2258">
                <a:moveTo>
                  <a:pt x="14039" y="14511"/>
                </a:moveTo>
                <a:cubicBezTo>
                  <a:pt x="13998" y="14511"/>
                  <a:pt x="13990" y="14511"/>
                  <a:pt x="13965" y="14511"/>
                </a:cubicBezTo>
                <a:cubicBezTo>
                  <a:pt x="13992" y="14471"/>
                  <a:pt x="14074" y="14464"/>
                  <a:pt x="14139" y="14461"/>
                </a:cubicBezTo>
                <a:cubicBezTo>
                  <a:pt x="14235" y="14457"/>
                  <a:pt x="14303" y="14484"/>
                  <a:pt x="14312" y="14585"/>
                </a:cubicBezTo>
                <a:cubicBezTo>
                  <a:pt x="14317" y="14649"/>
                  <a:pt x="14314" y="14752"/>
                  <a:pt x="14288" y="14808"/>
                </a:cubicBezTo>
                <a:cubicBezTo>
                  <a:pt x="14280" y="14816"/>
                  <a:pt x="14271" y="14825"/>
                  <a:pt x="14263" y="14833"/>
                </a:cubicBezTo>
                <a:cubicBezTo>
                  <a:pt x="14342" y="14833"/>
                  <a:pt x="14435" y="14823"/>
                  <a:pt x="14511" y="14808"/>
                </a:cubicBezTo>
                <a:cubicBezTo>
                  <a:pt x="14597" y="14791"/>
                  <a:pt x="14670" y="14766"/>
                  <a:pt x="14759" y="14759"/>
                </a:cubicBezTo>
              </a:path>
              <a:path w="5136" h="2258">
                <a:moveTo>
                  <a:pt x="16321" y="14660"/>
                </a:moveTo>
                <a:cubicBezTo>
                  <a:pt x="16278" y="14660"/>
                  <a:pt x="16377" y="14687"/>
                  <a:pt x="16396" y="14734"/>
                </a:cubicBezTo>
                <a:cubicBezTo>
                  <a:pt x="16419" y="14790"/>
                  <a:pt x="16405" y="14933"/>
                  <a:pt x="16371" y="14982"/>
                </a:cubicBezTo>
                <a:cubicBezTo>
                  <a:pt x="16325" y="15028"/>
                  <a:pt x="16313" y="15042"/>
                  <a:pt x="16272" y="15056"/>
                </a:cubicBezTo>
              </a:path>
              <a:path w="5136" h="2258">
                <a:moveTo>
                  <a:pt x="12551" y="12824"/>
                </a:moveTo>
                <a:cubicBezTo>
                  <a:pt x="12591" y="12807"/>
                  <a:pt x="12582" y="12805"/>
                  <a:pt x="12626" y="12799"/>
                </a:cubicBezTo>
                <a:cubicBezTo>
                  <a:pt x="12531" y="12937"/>
                  <a:pt x="12442" y="13088"/>
                  <a:pt x="12378" y="13246"/>
                </a:cubicBezTo>
                <a:cubicBezTo>
                  <a:pt x="12259" y="13541"/>
                  <a:pt x="12300" y="13806"/>
                  <a:pt x="12427" y="14089"/>
                </a:cubicBezTo>
                <a:cubicBezTo>
                  <a:pt x="12492" y="14233"/>
                  <a:pt x="12575" y="14331"/>
                  <a:pt x="12725" y="14387"/>
                </a:cubicBezTo>
                <a:cubicBezTo>
                  <a:pt x="12834" y="14428"/>
                  <a:pt x="12933" y="14436"/>
                  <a:pt x="13047" y="14436"/>
                </a:cubicBezTo>
                <a:cubicBezTo>
                  <a:pt x="13064" y="14436"/>
                  <a:pt x="13080" y="14436"/>
                  <a:pt x="13097" y="14436"/>
                </a:cubicBezTo>
              </a:path>
              <a:path w="5136" h="2258">
                <a:moveTo>
                  <a:pt x="11881" y="15007"/>
                </a:moveTo>
                <a:cubicBezTo>
                  <a:pt x="11899" y="14942"/>
                  <a:pt x="11900" y="14937"/>
                  <a:pt x="11906" y="14883"/>
                </a:cubicBezTo>
                <a:cubicBezTo>
                  <a:pt x="11868" y="14921"/>
                  <a:pt x="11792" y="15035"/>
                  <a:pt x="11733" y="15032"/>
                </a:cubicBezTo>
                <a:cubicBezTo>
                  <a:pt x="11662" y="15028"/>
                  <a:pt x="11683" y="14962"/>
                  <a:pt x="11683" y="14908"/>
                </a:cubicBezTo>
                <a:cubicBezTo>
                  <a:pt x="11683" y="14821"/>
                  <a:pt x="11719" y="14768"/>
                  <a:pt x="11733" y="14684"/>
                </a:cubicBezTo>
                <a:cubicBezTo>
                  <a:pt x="11741" y="14676"/>
                  <a:pt x="11749" y="14668"/>
                  <a:pt x="11757" y="14660"/>
                </a:cubicBezTo>
                <a:cubicBezTo>
                  <a:pt x="11764" y="14679"/>
                  <a:pt x="11781" y="14774"/>
                  <a:pt x="11757" y="14833"/>
                </a:cubicBezTo>
                <a:cubicBezTo>
                  <a:pt x="11745" y="14862"/>
                  <a:pt x="11676" y="14994"/>
                  <a:pt x="11633" y="15007"/>
                </a:cubicBezTo>
                <a:cubicBezTo>
                  <a:pt x="11617" y="15007"/>
                  <a:pt x="11600" y="15007"/>
                  <a:pt x="11584" y="15007"/>
                </a:cubicBezTo>
                <a:cubicBezTo>
                  <a:pt x="11562" y="14919"/>
                  <a:pt x="11556" y="14877"/>
                  <a:pt x="11584" y="14784"/>
                </a:cubicBezTo>
                <a:cubicBezTo>
                  <a:pt x="11609" y="14701"/>
                  <a:pt x="11633" y="14616"/>
                  <a:pt x="11658" y="14536"/>
                </a:cubicBezTo>
                <a:cubicBezTo>
                  <a:pt x="11652" y="14611"/>
                  <a:pt x="11642" y="14664"/>
                  <a:pt x="11609" y="14734"/>
                </a:cubicBezTo>
                <a:cubicBezTo>
                  <a:pt x="11584" y="14784"/>
                  <a:pt x="11576" y="14800"/>
                  <a:pt x="11534" y="14808"/>
                </a:cubicBezTo>
                <a:cubicBezTo>
                  <a:pt x="11467" y="14789"/>
                  <a:pt x="11449" y="14775"/>
                  <a:pt x="11435" y="14684"/>
                </a:cubicBezTo>
                <a:cubicBezTo>
                  <a:pt x="11416" y="14561"/>
                  <a:pt x="11491" y="14432"/>
                  <a:pt x="11509" y="14312"/>
                </a:cubicBezTo>
                <a:cubicBezTo>
                  <a:pt x="11509" y="14271"/>
                  <a:pt x="11501" y="14255"/>
                  <a:pt x="11534" y="14263"/>
                </a:cubicBezTo>
                <a:cubicBezTo>
                  <a:pt x="11534" y="14352"/>
                  <a:pt x="11543" y="14430"/>
                  <a:pt x="11509" y="14511"/>
                </a:cubicBezTo>
                <a:cubicBezTo>
                  <a:pt x="11488" y="14554"/>
                  <a:pt x="11484" y="14566"/>
                  <a:pt x="11460" y="14585"/>
                </a:cubicBezTo>
                <a:cubicBezTo>
                  <a:pt x="11425" y="14527"/>
                  <a:pt x="11423" y="14435"/>
                  <a:pt x="11435" y="14362"/>
                </a:cubicBezTo>
                <a:cubicBezTo>
                  <a:pt x="11451" y="14258"/>
                  <a:pt x="11467" y="14165"/>
                  <a:pt x="11559" y="14139"/>
                </a:cubicBezTo>
                <a:cubicBezTo>
                  <a:pt x="11579" y="14212"/>
                  <a:pt x="11592" y="14238"/>
                  <a:pt x="11559" y="14312"/>
                </a:cubicBezTo>
                <a:cubicBezTo>
                  <a:pt x="11559" y="14340"/>
                  <a:pt x="11557" y="14351"/>
                  <a:pt x="11534" y="14362"/>
                </a:cubicBezTo>
                <a:cubicBezTo>
                  <a:pt x="11495" y="14340"/>
                  <a:pt x="11446" y="14324"/>
                  <a:pt x="11435" y="14263"/>
                </a:cubicBezTo>
                <a:cubicBezTo>
                  <a:pt x="11420" y="14179"/>
                  <a:pt x="11431" y="14068"/>
                  <a:pt x="11460" y="13990"/>
                </a:cubicBezTo>
                <a:cubicBezTo>
                  <a:pt x="11468" y="13973"/>
                  <a:pt x="11477" y="13957"/>
                  <a:pt x="11485" y="13940"/>
                </a:cubicBezTo>
                <a:cubicBezTo>
                  <a:pt x="11478" y="14015"/>
                  <a:pt x="11467" y="14066"/>
                  <a:pt x="11435" y="14139"/>
                </a:cubicBezTo>
                <a:cubicBezTo>
                  <a:pt x="11411" y="14186"/>
                  <a:pt x="11405" y="14203"/>
                  <a:pt x="11361" y="14188"/>
                </a:cubicBezTo>
                <a:cubicBezTo>
                  <a:pt x="11287" y="14122"/>
                  <a:pt x="11265" y="14109"/>
                  <a:pt x="11261" y="13990"/>
                </a:cubicBezTo>
                <a:cubicBezTo>
                  <a:pt x="11259" y="13911"/>
                  <a:pt x="11280" y="13735"/>
                  <a:pt x="11336" y="13791"/>
                </a:cubicBezTo>
                <a:cubicBezTo>
                  <a:pt x="11370" y="13825"/>
                  <a:pt x="11326" y="13935"/>
                  <a:pt x="11311" y="1396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86680" y="5062680"/>
            <a:ext cx="947520" cy="492120"/>
          </a:xfrm>
          <a:custGeom>
            <a:avLst/>
            <a:gdLst/>
            <a:ahLst/>
            <a:rect l="l" t="t" r="r" b="b"/>
            <a:pathLst>
              <a:path w="2631" h="1366">
                <a:moveTo>
                  <a:pt x="19645" y="14883"/>
                </a:moveTo>
                <a:cubicBezTo>
                  <a:pt x="19686" y="14903"/>
                  <a:pt x="19692" y="14912"/>
                  <a:pt x="19720" y="14908"/>
                </a:cubicBezTo>
                <a:cubicBezTo>
                  <a:pt x="19552" y="14908"/>
                  <a:pt x="19390" y="14893"/>
                  <a:pt x="19224" y="14883"/>
                </a:cubicBezTo>
                <a:cubicBezTo>
                  <a:pt x="19025" y="14871"/>
                  <a:pt x="18826" y="14878"/>
                  <a:pt x="18628" y="14858"/>
                </a:cubicBezTo>
                <a:cubicBezTo>
                  <a:pt x="18425" y="14838"/>
                  <a:pt x="18237" y="14808"/>
                  <a:pt x="18033" y="14808"/>
                </a:cubicBezTo>
                <a:cubicBezTo>
                  <a:pt x="17961" y="14808"/>
                  <a:pt x="17869" y="14828"/>
                  <a:pt x="17810" y="14858"/>
                </a:cubicBezTo>
                <a:cubicBezTo>
                  <a:pt x="17785" y="14871"/>
                  <a:pt x="17805" y="14863"/>
                  <a:pt x="17785" y="14883"/>
                </a:cubicBezTo>
              </a:path>
              <a:path w="2631" h="1366">
                <a:moveTo>
                  <a:pt x="17487" y="14089"/>
                </a:moveTo>
                <a:cubicBezTo>
                  <a:pt x="17512" y="14089"/>
                  <a:pt x="17520" y="14089"/>
                  <a:pt x="17512" y="14064"/>
                </a:cubicBezTo>
                <a:cubicBezTo>
                  <a:pt x="17449" y="14095"/>
                  <a:pt x="17462" y="14140"/>
                  <a:pt x="17462" y="14213"/>
                </a:cubicBezTo>
                <a:cubicBezTo>
                  <a:pt x="17462" y="14248"/>
                  <a:pt x="17467" y="14266"/>
                  <a:pt x="17487" y="14288"/>
                </a:cubicBezTo>
                <a:cubicBezTo>
                  <a:pt x="17583" y="14276"/>
                  <a:pt x="17584" y="14233"/>
                  <a:pt x="17661" y="14188"/>
                </a:cubicBezTo>
                <a:cubicBezTo>
                  <a:pt x="17678" y="14180"/>
                  <a:pt x="17694" y="14171"/>
                  <a:pt x="17711" y="14163"/>
                </a:cubicBezTo>
                <a:cubicBezTo>
                  <a:pt x="17769" y="14252"/>
                  <a:pt x="17806" y="14357"/>
                  <a:pt x="17835" y="14461"/>
                </a:cubicBezTo>
                <a:cubicBezTo>
                  <a:pt x="17854" y="14529"/>
                  <a:pt x="17902" y="14656"/>
                  <a:pt x="17810" y="14684"/>
                </a:cubicBezTo>
                <a:cubicBezTo>
                  <a:pt x="17768" y="14697"/>
                  <a:pt x="17616" y="14636"/>
                  <a:pt x="17587" y="14610"/>
                </a:cubicBezTo>
                <a:cubicBezTo>
                  <a:pt x="17561" y="14587"/>
                  <a:pt x="17524" y="14535"/>
                  <a:pt x="17512" y="14511"/>
                </a:cubicBezTo>
              </a:path>
              <a:path w="2631" h="1366">
                <a:moveTo>
                  <a:pt x="18058" y="14337"/>
                </a:moveTo>
                <a:cubicBezTo>
                  <a:pt x="18058" y="14274"/>
                  <a:pt x="18035" y="14398"/>
                  <a:pt x="18033" y="14412"/>
                </a:cubicBezTo>
              </a:path>
              <a:path w="2631" h="1366">
                <a:moveTo>
                  <a:pt x="18479" y="14263"/>
                </a:moveTo>
                <a:cubicBezTo>
                  <a:pt x="18487" y="14255"/>
                  <a:pt x="18496" y="14246"/>
                  <a:pt x="18504" y="14238"/>
                </a:cubicBezTo>
                <a:cubicBezTo>
                  <a:pt x="18489" y="14282"/>
                  <a:pt x="18433" y="14263"/>
                  <a:pt x="18380" y="14263"/>
                </a:cubicBezTo>
                <a:cubicBezTo>
                  <a:pt x="18330" y="14263"/>
                  <a:pt x="18281" y="14263"/>
                  <a:pt x="18231" y="14263"/>
                </a:cubicBezTo>
              </a:path>
              <a:path w="2631" h="1366">
                <a:moveTo>
                  <a:pt x="18207" y="14188"/>
                </a:moveTo>
                <a:cubicBezTo>
                  <a:pt x="18271" y="14141"/>
                  <a:pt x="18297" y="14107"/>
                  <a:pt x="18331" y="14188"/>
                </a:cubicBezTo>
                <a:cubicBezTo>
                  <a:pt x="18362" y="14263"/>
                  <a:pt x="18355" y="14330"/>
                  <a:pt x="18355" y="14412"/>
                </a:cubicBezTo>
              </a:path>
              <a:path w="2631" h="1366">
                <a:moveTo>
                  <a:pt x="18678" y="14263"/>
                </a:moveTo>
                <a:cubicBezTo>
                  <a:pt x="18678" y="14309"/>
                  <a:pt x="18658" y="14384"/>
                  <a:pt x="18703" y="14412"/>
                </a:cubicBezTo>
                <a:cubicBezTo>
                  <a:pt x="18757" y="14445"/>
                  <a:pt x="18830" y="14376"/>
                  <a:pt x="18876" y="14362"/>
                </a:cubicBezTo>
                <a:cubicBezTo>
                  <a:pt x="18965" y="14334"/>
                  <a:pt x="18974" y="14495"/>
                  <a:pt x="18976" y="14536"/>
                </a:cubicBezTo>
                <a:cubicBezTo>
                  <a:pt x="18978" y="14588"/>
                  <a:pt x="18996" y="14689"/>
                  <a:pt x="18926" y="14709"/>
                </a:cubicBezTo>
                <a:cubicBezTo>
                  <a:pt x="18854" y="14729"/>
                  <a:pt x="18789" y="14690"/>
                  <a:pt x="18728" y="14660"/>
                </a:cubicBezTo>
              </a:path>
              <a:path w="2631" h="1366">
                <a:moveTo>
                  <a:pt x="19199" y="14436"/>
                </a:moveTo>
                <a:cubicBezTo>
                  <a:pt x="19212" y="14384"/>
                  <a:pt x="19237" y="14386"/>
                  <a:pt x="19273" y="14362"/>
                </a:cubicBezTo>
                <a:cubicBezTo>
                  <a:pt x="19316" y="14333"/>
                  <a:pt x="19329" y="14323"/>
                  <a:pt x="19372" y="14362"/>
                </a:cubicBezTo>
                <a:cubicBezTo>
                  <a:pt x="19420" y="14406"/>
                  <a:pt x="19441" y="14431"/>
                  <a:pt x="19397" y="14486"/>
                </a:cubicBezTo>
                <a:cubicBezTo>
                  <a:pt x="19371" y="14518"/>
                  <a:pt x="19357" y="14522"/>
                  <a:pt x="19348" y="14560"/>
                </a:cubicBezTo>
                <a:cubicBezTo>
                  <a:pt x="19439" y="14560"/>
                  <a:pt x="19530" y="14560"/>
                  <a:pt x="19621" y="14560"/>
                </a:cubicBezTo>
              </a:path>
              <a:path w="2631" h="1366">
                <a:moveTo>
                  <a:pt x="18604" y="15205"/>
                </a:moveTo>
                <a:cubicBezTo>
                  <a:pt x="18576" y="15168"/>
                  <a:pt x="18565" y="15163"/>
                  <a:pt x="18554" y="15131"/>
                </a:cubicBezTo>
                <a:cubicBezTo>
                  <a:pt x="18600" y="15119"/>
                  <a:pt x="18631" y="15080"/>
                  <a:pt x="18678" y="15056"/>
                </a:cubicBezTo>
                <a:cubicBezTo>
                  <a:pt x="18732" y="15028"/>
                  <a:pt x="18743" y="15032"/>
                  <a:pt x="18802" y="15032"/>
                </a:cubicBezTo>
                <a:cubicBezTo>
                  <a:pt x="18802" y="15123"/>
                  <a:pt x="18802" y="15213"/>
                  <a:pt x="18802" y="15304"/>
                </a:cubicBezTo>
                <a:cubicBezTo>
                  <a:pt x="18860" y="15304"/>
                  <a:pt x="18895" y="15299"/>
                  <a:pt x="18951" y="15280"/>
                </a:cubicBezTo>
                <a:cubicBezTo>
                  <a:pt x="18976" y="15272"/>
                  <a:pt x="19000" y="15263"/>
                  <a:pt x="19025" y="15255"/>
                </a:cubicBezTo>
              </a:path>
              <a:path w="2631" h="1366">
                <a:moveTo>
                  <a:pt x="19472" y="14139"/>
                </a:moveTo>
                <a:cubicBezTo>
                  <a:pt x="19513" y="14152"/>
                  <a:pt x="19506" y="14146"/>
                  <a:pt x="19546" y="14163"/>
                </a:cubicBezTo>
                <a:cubicBezTo>
                  <a:pt x="19672" y="14218"/>
                  <a:pt x="19783" y="14245"/>
                  <a:pt x="19893" y="14337"/>
                </a:cubicBezTo>
                <a:cubicBezTo>
                  <a:pt x="20045" y="14464"/>
                  <a:pt x="20076" y="14644"/>
                  <a:pt x="20092" y="14833"/>
                </a:cubicBezTo>
                <a:cubicBezTo>
                  <a:pt x="20102" y="14954"/>
                  <a:pt x="20083" y="15147"/>
                  <a:pt x="20017" y="15255"/>
                </a:cubicBezTo>
                <a:cubicBezTo>
                  <a:pt x="19964" y="15343"/>
                  <a:pt x="19833" y="15392"/>
                  <a:pt x="19745" y="154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826920" y="3429000"/>
            <a:ext cx="43200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24000" y="3429000"/>
            <a:ext cx="432000" cy="863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3280" y="2997360"/>
            <a:ext cx="1368360" cy="129672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4000" y="3429000"/>
            <a:ext cx="86364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3068640"/>
            <a:ext cx="432000" cy="1655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5589720"/>
            <a:ext cx="1728720" cy="43164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4724280"/>
            <a:ext cx="1295280" cy="1297080"/>
          </a:xfrm>
          <a:prstGeom prst="rtTriangle">
            <a:avLst/>
          </a:prstGeom>
          <a:noFill/>
          <a:ln w="57240">
            <a:solidFill>
              <a:srgbClr val="676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the gradient of a straight 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176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187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69228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for every one square moved to the right, how many moved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– difference in y    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in x    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5280" y="2997360"/>
            <a:ext cx="1297080" cy="1295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24000" y="2491920"/>
            <a:ext cx="863640" cy="180036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84720" y="2997360"/>
            <a:ext cx="1727280" cy="863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6021360"/>
            <a:ext cx="17287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4724280"/>
            <a:ext cx="1295280" cy="12970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997360"/>
            <a:ext cx="433440" cy="172872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589720"/>
            <a:ext cx="1728720" cy="4330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213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0880" y="4653000"/>
            <a:ext cx="3859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6127" y="13915"/>
                </a:moveTo>
                <a:cubicBezTo>
                  <a:pt x="5871" y="13843"/>
                  <a:pt x="5632" y="13757"/>
                  <a:pt x="5383" y="13667"/>
                </a:cubicBezTo>
              </a:path>
              <a:path w="1068" h="993">
                <a:moveTo>
                  <a:pt x="5060" y="13221"/>
                </a:moveTo>
                <a:cubicBezTo>
                  <a:pt x="5093" y="13122"/>
                  <a:pt x="5126" y="13022"/>
                  <a:pt x="5159" y="1292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Finding the gradient of a straight 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wo points (1,2) and (2, 5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3, 2) (4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2, 5) (4,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1, 2) (3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2, 2) (-4,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6720" y="2946240"/>
            <a:ext cx="1019160" cy="349560"/>
          </a:xfrm>
          <a:custGeom>
            <a:avLst/>
            <a:gdLst/>
            <a:ahLst/>
            <a:rect l="l" t="t" r="r" b="b"/>
            <a:pathLst>
              <a:path w="2828" h="968">
                <a:moveTo>
                  <a:pt x="12378" y="8260"/>
                </a:moveTo>
                <a:cubicBezTo>
                  <a:pt x="12378" y="8192"/>
                  <a:pt x="12348" y="8291"/>
                  <a:pt x="12353" y="8359"/>
                </a:cubicBezTo>
                <a:cubicBezTo>
                  <a:pt x="12360" y="8453"/>
                  <a:pt x="12406" y="8607"/>
                  <a:pt x="12526" y="8607"/>
                </a:cubicBezTo>
                <a:cubicBezTo>
                  <a:pt x="12640" y="8607"/>
                  <a:pt x="12679" y="8401"/>
                  <a:pt x="12725" y="8334"/>
                </a:cubicBezTo>
                <a:cubicBezTo>
                  <a:pt x="12771" y="8288"/>
                  <a:pt x="12783" y="8274"/>
                  <a:pt x="12824" y="8260"/>
                </a:cubicBezTo>
                <a:cubicBezTo>
                  <a:pt x="12941" y="8362"/>
                  <a:pt x="12983" y="8521"/>
                  <a:pt x="12998" y="8682"/>
                </a:cubicBezTo>
                <a:cubicBezTo>
                  <a:pt x="13009" y="8799"/>
                  <a:pt x="13005" y="9014"/>
                  <a:pt x="12874" y="9079"/>
                </a:cubicBezTo>
                <a:cubicBezTo>
                  <a:pt x="12773" y="9129"/>
                  <a:pt x="12604" y="9083"/>
                  <a:pt x="12526" y="9004"/>
                </a:cubicBezTo>
                <a:cubicBezTo>
                  <a:pt x="12499" y="8948"/>
                  <a:pt x="12491" y="8926"/>
                  <a:pt x="12502" y="8880"/>
                </a:cubicBezTo>
              </a:path>
              <a:path w="2828" h="968">
                <a:moveTo>
                  <a:pt x="13246" y="8632"/>
                </a:moveTo>
                <a:cubicBezTo>
                  <a:pt x="13221" y="8632"/>
                  <a:pt x="13196" y="8632"/>
                  <a:pt x="13171" y="8632"/>
                </a:cubicBezTo>
                <a:cubicBezTo>
                  <a:pt x="13219" y="8593"/>
                  <a:pt x="13284" y="8552"/>
                  <a:pt x="13345" y="8533"/>
                </a:cubicBezTo>
                <a:cubicBezTo>
                  <a:pt x="13388" y="8520"/>
                  <a:pt x="13416" y="8541"/>
                  <a:pt x="13419" y="8582"/>
                </a:cubicBezTo>
                <a:cubicBezTo>
                  <a:pt x="13422" y="8629"/>
                  <a:pt x="13393" y="8672"/>
                  <a:pt x="13370" y="8706"/>
                </a:cubicBezTo>
                <a:cubicBezTo>
                  <a:pt x="13362" y="8714"/>
                  <a:pt x="13353" y="8723"/>
                  <a:pt x="13345" y="8731"/>
                </a:cubicBezTo>
                <a:cubicBezTo>
                  <a:pt x="13398" y="8731"/>
                  <a:pt x="13425" y="8732"/>
                  <a:pt x="13469" y="8706"/>
                </a:cubicBezTo>
              </a:path>
              <a:path w="2828" h="968">
                <a:moveTo>
                  <a:pt x="13767" y="8483"/>
                </a:moveTo>
                <a:cubicBezTo>
                  <a:pt x="13767" y="8475"/>
                  <a:pt x="13767" y="8466"/>
                  <a:pt x="13767" y="8458"/>
                </a:cubicBezTo>
                <a:cubicBezTo>
                  <a:pt x="13841" y="8458"/>
                  <a:pt x="13916" y="8458"/>
                  <a:pt x="13990" y="8458"/>
                </a:cubicBezTo>
              </a:path>
              <a:path w="2828" h="968">
                <a:moveTo>
                  <a:pt x="14238" y="8210"/>
                </a:moveTo>
                <a:cubicBezTo>
                  <a:pt x="14190" y="8195"/>
                  <a:pt x="14201" y="8337"/>
                  <a:pt x="14213" y="8409"/>
                </a:cubicBezTo>
                <a:cubicBezTo>
                  <a:pt x="14224" y="8472"/>
                  <a:pt x="14318" y="8661"/>
                  <a:pt x="14412" y="8607"/>
                </a:cubicBezTo>
                <a:cubicBezTo>
                  <a:pt x="14463" y="8578"/>
                  <a:pt x="14481" y="8465"/>
                  <a:pt x="14536" y="8434"/>
                </a:cubicBezTo>
                <a:cubicBezTo>
                  <a:pt x="14544" y="8434"/>
                  <a:pt x="14552" y="8434"/>
                  <a:pt x="14560" y="8434"/>
                </a:cubicBezTo>
                <a:cubicBezTo>
                  <a:pt x="14610" y="8508"/>
                  <a:pt x="14648" y="8614"/>
                  <a:pt x="14660" y="8706"/>
                </a:cubicBezTo>
                <a:cubicBezTo>
                  <a:pt x="14673" y="8803"/>
                  <a:pt x="14600" y="8862"/>
                  <a:pt x="14511" y="8880"/>
                </a:cubicBezTo>
                <a:cubicBezTo>
                  <a:pt x="14461" y="8880"/>
                  <a:pt x="14445" y="8880"/>
                  <a:pt x="14412" y="8880"/>
                </a:cubicBezTo>
              </a:path>
              <a:path w="2828" h="968">
                <a:moveTo>
                  <a:pt x="14858" y="8682"/>
                </a:moveTo>
                <a:cubicBezTo>
                  <a:pt x="14945" y="8682"/>
                  <a:pt x="14908" y="8754"/>
                  <a:pt x="14908" y="8830"/>
                </a:cubicBezTo>
              </a:path>
              <a:path w="2828" h="968">
                <a:moveTo>
                  <a:pt x="15180" y="9079"/>
                </a:moveTo>
                <a:cubicBezTo>
                  <a:pt x="15101" y="9079"/>
                  <a:pt x="15030" y="9063"/>
                  <a:pt x="14957" y="9054"/>
                </a:cubicBezTo>
                <a:cubicBezTo>
                  <a:pt x="14855" y="9041"/>
                  <a:pt x="14737" y="9037"/>
                  <a:pt x="14635" y="9029"/>
                </a:cubicBezTo>
                <a:cubicBezTo>
                  <a:pt x="14419" y="9013"/>
                  <a:pt x="14203" y="9040"/>
                  <a:pt x="13990" y="9054"/>
                </a:cubicBezTo>
                <a:cubicBezTo>
                  <a:pt x="13847" y="9063"/>
                  <a:pt x="13707" y="9064"/>
                  <a:pt x="13568" y="9079"/>
                </a:cubicBezTo>
                <a:cubicBezTo>
                  <a:pt x="13461" y="9091"/>
                  <a:pt x="13351" y="9092"/>
                  <a:pt x="13246" y="9103"/>
                </a:cubicBezTo>
                <a:cubicBezTo>
                  <a:pt x="13152" y="9113"/>
                  <a:pt x="13069" y="9128"/>
                  <a:pt x="12973" y="9128"/>
                </a:cubicBezTo>
                <a:cubicBezTo>
                  <a:pt x="12911" y="9128"/>
                  <a:pt x="12863" y="9150"/>
                  <a:pt x="12799" y="9153"/>
                </a:cubicBezTo>
                <a:cubicBezTo>
                  <a:pt x="12766" y="9155"/>
                  <a:pt x="12733" y="9153"/>
                  <a:pt x="12700" y="9153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83080" y="3456000"/>
            <a:ext cx="384120" cy="169920"/>
          </a:xfrm>
          <a:custGeom>
            <a:avLst/>
            <a:gdLst/>
            <a:ahLst/>
            <a:rect l="l" t="t" r="r" b="b"/>
            <a:pathLst>
              <a:path w="1068" h="473">
                <a:moveTo>
                  <a:pt x="12452" y="9674"/>
                </a:moveTo>
                <a:cubicBezTo>
                  <a:pt x="12497" y="9640"/>
                  <a:pt x="12541" y="9627"/>
                  <a:pt x="12601" y="9624"/>
                </a:cubicBezTo>
                <a:cubicBezTo>
                  <a:pt x="12708" y="9619"/>
                  <a:pt x="12758" y="9695"/>
                  <a:pt x="12774" y="9798"/>
                </a:cubicBezTo>
                <a:cubicBezTo>
                  <a:pt x="12790" y="9904"/>
                  <a:pt x="12717" y="9942"/>
                  <a:pt x="12626" y="9947"/>
                </a:cubicBezTo>
                <a:cubicBezTo>
                  <a:pt x="12561" y="9951"/>
                  <a:pt x="12530" y="9906"/>
                  <a:pt x="12477" y="9872"/>
                </a:cubicBezTo>
              </a:path>
              <a:path w="1068" h="473">
                <a:moveTo>
                  <a:pt x="12874" y="9624"/>
                </a:moveTo>
                <a:cubicBezTo>
                  <a:pt x="12899" y="9616"/>
                  <a:pt x="12923" y="9607"/>
                  <a:pt x="12948" y="9599"/>
                </a:cubicBezTo>
                <a:cubicBezTo>
                  <a:pt x="12904" y="9654"/>
                  <a:pt x="12859" y="9710"/>
                  <a:pt x="12824" y="9773"/>
                </a:cubicBezTo>
                <a:cubicBezTo>
                  <a:pt x="12773" y="9865"/>
                  <a:pt x="12830" y="9928"/>
                  <a:pt x="12923" y="9947"/>
                </a:cubicBezTo>
                <a:cubicBezTo>
                  <a:pt x="12987" y="9960"/>
                  <a:pt x="13039" y="9941"/>
                  <a:pt x="13097" y="9922"/>
                </a:cubicBezTo>
              </a:path>
              <a:path w="1068" h="473">
                <a:moveTo>
                  <a:pt x="13196" y="9823"/>
                </a:moveTo>
                <a:cubicBezTo>
                  <a:pt x="13206" y="9794"/>
                  <a:pt x="13277" y="9779"/>
                  <a:pt x="13320" y="9773"/>
                </a:cubicBezTo>
                <a:cubicBezTo>
                  <a:pt x="13362" y="9767"/>
                  <a:pt x="13424" y="9773"/>
                  <a:pt x="13469" y="9773"/>
                </a:cubicBezTo>
                <a:cubicBezTo>
                  <a:pt x="13469" y="9845"/>
                  <a:pt x="13452" y="9859"/>
                  <a:pt x="13419" y="9922"/>
                </a:cubicBezTo>
                <a:cubicBezTo>
                  <a:pt x="13390" y="9978"/>
                  <a:pt x="13334" y="10014"/>
                  <a:pt x="13320" y="10071"/>
                </a:cubicBezTo>
                <a:cubicBezTo>
                  <a:pt x="13395" y="10071"/>
                  <a:pt x="13425" y="10042"/>
                  <a:pt x="13494" y="10021"/>
                </a:cubicBezTo>
                <a:cubicBezTo>
                  <a:pt x="13502" y="10021"/>
                  <a:pt x="13511" y="10021"/>
                  <a:pt x="13519" y="10021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91040" y="3411360"/>
            <a:ext cx="420840" cy="18756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866" y="9674"/>
                </a:moveTo>
                <a:cubicBezTo>
                  <a:pt x="13914" y="9674"/>
                  <a:pt x="13972" y="9663"/>
                  <a:pt x="14015" y="9649"/>
                </a:cubicBezTo>
                <a:cubicBezTo>
                  <a:pt x="14066" y="9632"/>
                  <a:pt x="14085" y="9624"/>
                  <a:pt x="14139" y="9624"/>
                </a:cubicBezTo>
              </a:path>
              <a:path w="1167" h="522">
                <a:moveTo>
                  <a:pt x="14362" y="9624"/>
                </a:moveTo>
                <a:cubicBezTo>
                  <a:pt x="14391" y="9585"/>
                  <a:pt x="14399" y="9555"/>
                  <a:pt x="14461" y="9575"/>
                </a:cubicBezTo>
                <a:cubicBezTo>
                  <a:pt x="14515" y="9592"/>
                  <a:pt x="14550" y="9663"/>
                  <a:pt x="14536" y="9723"/>
                </a:cubicBezTo>
                <a:cubicBezTo>
                  <a:pt x="14525" y="9772"/>
                  <a:pt x="14436" y="9836"/>
                  <a:pt x="14387" y="9847"/>
                </a:cubicBezTo>
                <a:cubicBezTo>
                  <a:pt x="14324" y="9861"/>
                  <a:pt x="14276" y="9826"/>
                  <a:pt x="14263" y="9773"/>
                </a:cubicBezTo>
              </a:path>
              <a:path w="1167" h="522">
                <a:moveTo>
                  <a:pt x="14660" y="9550"/>
                </a:moveTo>
                <a:cubicBezTo>
                  <a:pt x="14697" y="9493"/>
                  <a:pt x="14735" y="9468"/>
                  <a:pt x="14684" y="9475"/>
                </a:cubicBezTo>
                <a:cubicBezTo>
                  <a:pt x="14638" y="9499"/>
                  <a:pt x="14597" y="9562"/>
                  <a:pt x="14585" y="9624"/>
                </a:cubicBezTo>
                <a:cubicBezTo>
                  <a:pt x="14567" y="9713"/>
                  <a:pt x="14595" y="9765"/>
                  <a:pt x="14684" y="9773"/>
                </a:cubicBezTo>
                <a:cubicBezTo>
                  <a:pt x="14740" y="9778"/>
                  <a:pt x="14801" y="9773"/>
                  <a:pt x="14858" y="9773"/>
                </a:cubicBezTo>
              </a:path>
              <a:path w="1167" h="522">
                <a:moveTo>
                  <a:pt x="14932" y="9699"/>
                </a:moveTo>
                <a:cubicBezTo>
                  <a:pt x="14971" y="9660"/>
                  <a:pt x="14973" y="9643"/>
                  <a:pt x="15007" y="9649"/>
                </a:cubicBezTo>
                <a:cubicBezTo>
                  <a:pt x="15007" y="9769"/>
                  <a:pt x="15010" y="9878"/>
                  <a:pt x="15032" y="9996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3875040"/>
            <a:ext cx="527040" cy="482760"/>
          </a:xfrm>
          <a:custGeom>
            <a:avLst/>
            <a:gdLst/>
            <a:ahLst/>
            <a:rect l="l" t="t" r="r" b="b"/>
            <a:pathLst>
              <a:path w="1465" h="1341">
                <a:moveTo>
                  <a:pt x="10790" y="10815"/>
                </a:moveTo>
                <a:cubicBezTo>
                  <a:pt x="10798" y="10798"/>
                  <a:pt x="10807" y="10782"/>
                  <a:pt x="10815" y="10765"/>
                </a:cubicBezTo>
                <a:cubicBezTo>
                  <a:pt x="10815" y="10861"/>
                  <a:pt x="10800" y="10946"/>
                  <a:pt x="10790" y="11038"/>
                </a:cubicBezTo>
                <a:cubicBezTo>
                  <a:pt x="10782" y="11108"/>
                  <a:pt x="10807" y="11169"/>
                  <a:pt x="10815" y="11237"/>
                </a:cubicBezTo>
              </a:path>
              <a:path w="1465" h="1341">
                <a:moveTo>
                  <a:pt x="10988" y="10889"/>
                </a:moveTo>
                <a:cubicBezTo>
                  <a:pt x="10996" y="10881"/>
                  <a:pt x="11005" y="10872"/>
                  <a:pt x="11013" y="10864"/>
                </a:cubicBezTo>
                <a:cubicBezTo>
                  <a:pt x="11063" y="10947"/>
                  <a:pt x="11023" y="11016"/>
                  <a:pt x="11013" y="11112"/>
                </a:cubicBezTo>
                <a:cubicBezTo>
                  <a:pt x="11013" y="11196"/>
                  <a:pt x="11015" y="11230"/>
                  <a:pt x="11038" y="11286"/>
                </a:cubicBezTo>
              </a:path>
              <a:path w="1465" h="1341">
                <a:moveTo>
                  <a:pt x="11361" y="11088"/>
                </a:moveTo>
                <a:cubicBezTo>
                  <a:pt x="11361" y="11113"/>
                  <a:pt x="11361" y="11137"/>
                  <a:pt x="11361" y="11162"/>
                </a:cubicBezTo>
                <a:cubicBezTo>
                  <a:pt x="11403" y="11151"/>
                  <a:pt x="11437" y="11120"/>
                  <a:pt x="11485" y="11112"/>
                </a:cubicBezTo>
                <a:cubicBezTo>
                  <a:pt x="11523" y="11105"/>
                  <a:pt x="11570" y="11112"/>
                  <a:pt x="11609" y="11112"/>
                </a:cubicBezTo>
              </a:path>
              <a:path w="1465" h="1341">
                <a:moveTo>
                  <a:pt x="11857" y="10914"/>
                </a:moveTo>
                <a:cubicBezTo>
                  <a:pt x="11892" y="10872"/>
                  <a:pt x="11933" y="10819"/>
                  <a:pt x="11881" y="10864"/>
                </a:cubicBezTo>
                <a:cubicBezTo>
                  <a:pt x="11857" y="10885"/>
                  <a:pt x="11781" y="10942"/>
                  <a:pt x="11807" y="10988"/>
                </a:cubicBezTo>
                <a:cubicBezTo>
                  <a:pt x="11841" y="11049"/>
                  <a:pt x="11945" y="11060"/>
                  <a:pt x="12005" y="11063"/>
                </a:cubicBezTo>
                <a:cubicBezTo>
                  <a:pt x="12085" y="11066"/>
                  <a:pt x="12126" y="11078"/>
                  <a:pt x="12154" y="11162"/>
                </a:cubicBezTo>
                <a:cubicBezTo>
                  <a:pt x="12154" y="11187"/>
                  <a:pt x="12154" y="11195"/>
                  <a:pt x="12154" y="11212"/>
                </a:cubicBezTo>
                <a:cubicBezTo>
                  <a:pt x="12088" y="11212"/>
                  <a:pt x="12022" y="11212"/>
                  <a:pt x="11956" y="11212"/>
                </a:cubicBezTo>
              </a:path>
              <a:path w="1465" h="1341">
                <a:moveTo>
                  <a:pt x="12204" y="10964"/>
                </a:moveTo>
                <a:cubicBezTo>
                  <a:pt x="12242" y="10907"/>
                  <a:pt x="12259" y="10904"/>
                  <a:pt x="12254" y="10864"/>
                </a:cubicBezTo>
                <a:cubicBezTo>
                  <a:pt x="12188" y="10864"/>
                  <a:pt x="12121" y="10864"/>
                  <a:pt x="12055" y="10864"/>
                </a:cubicBezTo>
              </a:path>
              <a:path w="1465" h="1341">
                <a:moveTo>
                  <a:pt x="12229" y="11361"/>
                </a:moveTo>
                <a:cubicBezTo>
                  <a:pt x="12252" y="11338"/>
                  <a:pt x="12260" y="11327"/>
                  <a:pt x="12254" y="11361"/>
                </a:cubicBezTo>
                <a:cubicBezTo>
                  <a:pt x="12217" y="11339"/>
                  <a:pt x="12152" y="11297"/>
                  <a:pt x="12105" y="11286"/>
                </a:cubicBezTo>
                <a:cubicBezTo>
                  <a:pt x="11809" y="11216"/>
                  <a:pt x="11383" y="11278"/>
                  <a:pt x="11088" y="11311"/>
                </a:cubicBezTo>
                <a:cubicBezTo>
                  <a:pt x="11008" y="11320"/>
                  <a:pt x="10962" y="11355"/>
                  <a:pt x="10889" y="11361"/>
                </a:cubicBezTo>
                <a:cubicBezTo>
                  <a:pt x="10881" y="11361"/>
                  <a:pt x="10872" y="11361"/>
                  <a:pt x="10864" y="11361"/>
                </a:cubicBezTo>
              </a:path>
              <a:path w="1465" h="1341">
                <a:moveTo>
                  <a:pt x="10939" y="11609"/>
                </a:moveTo>
                <a:cubicBezTo>
                  <a:pt x="10947" y="11592"/>
                  <a:pt x="10956" y="11576"/>
                  <a:pt x="10964" y="11559"/>
                </a:cubicBezTo>
                <a:cubicBezTo>
                  <a:pt x="10949" y="11631"/>
                  <a:pt x="10922" y="11707"/>
                  <a:pt x="10914" y="11782"/>
                </a:cubicBezTo>
                <a:cubicBezTo>
                  <a:pt x="10906" y="11854"/>
                  <a:pt x="10897" y="11957"/>
                  <a:pt x="10964" y="12005"/>
                </a:cubicBezTo>
                <a:cubicBezTo>
                  <a:pt x="11027" y="12050"/>
                  <a:pt x="11098" y="12033"/>
                  <a:pt x="11162" y="12005"/>
                </a:cubicBezTo>
                <a:cubicBezTo>
                  <a:pt x="11216" y="11982"/>
                  <a:pt x="11279" y="11970"/>
                  <a:pt x="11336" y="11956"/>
                </a:cubicBezTo>
                <a:cubicBezTo>
                  <a:pt x="11361" y="11956"/>
                  <a:pt x="11369" y="11956"/>
                  <a:pt x="11385" y="11956"/>
                </a:cubicBezTo>
              </a:path>
              <a:path w="1465" h="1341">
                <a:moveTo>
                  <a:pt x="11187" y="11881"/>
                </a:moveTo>
                <a:cubicBezTo>
                  <a:pt x="11170" y="11881"/>
                  <a:pt x="11154" y="11881"/>
                  <a:pt x="11137" y="11881"/>
                </a:cubicBezTo>
                <a:cubicBezTo>
                  <a:pt x="11137" y="11960"/>
                  <a:pt x="11124" y="12041"/>
                  <a:pt x="11162" y="12105"/>
                </a:cubicBezTo>
              </a:path>
              <a:path w="1465" h="1341">
                <a:moveTo>
                  <a:pt x="11460" y="11931"/>
                </a:moveTo>
                <a:cubicBezTo>
                  <a:pt x="11475" y="11870"/>
                  <a:pt x="11498" y="11881"/>
                  <a:pt x="11559" y="11881"/>
                </a:cubicBezTo>
                <a:cubicBezTo>
                  <a:pt x="11576" y="11881"/>
                  <a:pt x="11592" y="11881"/>
                  <a:pt x="11609" y="11881"/>
                </a:cubicBezTo>
              </a:path>
              <a:path w="1465" h="1341">
                <a:moveTo>
                  <a:pt x="11757" y="11832"/>
                </a:moveTo>
                <a:cubicBezTo>
                  <a:pt x="11768" y="11765"/>
                  <a:pt x="11772" y="11782"/>
                  <a:pt x="11832" y="11757"/>
                </a:cubicBezTo>
                <a:cubicBezTo>
                  <a:pt x="11891" y="11732"/>
                  <a:pt x="11960" y="11681"/>
                  <a:pt x="12030" y="11708"/>
                </a:cubicBezTo>
                <a:cubicBezTo>
                  <a:pt x="12120" y="11743"/>
                  <a:pt x="12019" y="11837"/>
                  <a:pt x="12005" y="11857"/>
                </a:cubicBezTo>
                <a:cubicBezTo>
                  <a:pt x="11975" y="11898"/>
                  <a:pt x="11936" y="11954"/>
                  <a:pt x="11931" y="12005"/>
                </a:cubicBezTo>
                <a:cubicBezTo>
                  <a:pt x="11931" y="12013"/>
                  <a:pt x="11931" y="12022"/>
                  <a:pt x="11931" y="12030"/>
                </a:cubicBezTo>
                <a:cubicBezTo>
                  <a:pt x="12044" y="12030"/>
                  <a:pt x="12145" y="12032"/>
                  <a:pt x="12254" y="1200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5120" y="4037040"/>
            <a:ext cx="637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13717" y="11212"/>
                </a:moveTo>
                <a:cubicBezTo>
                  <a:pt x="13670" y="11212"/>
                  <a:pt x="13654" y="11229"/>
                  <a:pt x="13618" y="11237"/>
                </a:cubicBezTo>
                <a:cubicBezTo>
                  <a:pt x="13576" y="11237"/>
                  <a:pt x="13568" y="11237"/>
                  <a:pt x="13543" y="11237"/>
                </a:cubicBezTo>
              </a:path>
              <a:path w="175" h="274">
                <a:moveTo>
                  <a:pt x="13643" y="11311"/>
                </a:moveTo>
                <a:cubicBezTo>
                  <a:pt x="13688" y="11337"/>
                  <a:pt x="13751" y="11367"/>
                  <a:pt x="13717" y="11435"/>
                </a:cubicBezTo>
                <a:cubicBezTo>
                  <a:pt x="13690" y="11490"/>
                  <a:pt x="13645" y="11485"/>
                  <a:pt x="13593" y="11485"/>
                </a:cubicBezTo>
                <a:cubicBezTo>
                  <a:pt x="13568" y="11485"/>
                  <a:pt x="13560" y="11485"/>
                  <a:pt x="13543" y="1148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05240" y="3848040"/>
            <a:ext cx="206640" cy="430200"/>
          </a:xfrm>
          <a:custGeom>
            <a:avLst/>
            <a:gdLst/>
            <a:ahLst/>
            <a:rect l="l" t="t" r="r" b="b"/>
            <a:pathLst>
              <a:path w="572" h="1191">
                <a:moveTo>
                  <a:pt x="14684" y="10815"/>
                </a:moveTo>
                <a:cubicBezTo>
                  <a:pt x="14706" y="10763"/>
                  <a:pt x="14709" y="10745"/>
                  <a:pt x="14709" y="10691"/>
                </a:cubicBezTo>
                <a:cubicBezTo>
                  <a:pt x="14646" y="10704"/>
                  <a:pt x="14591" y="10755"/>
                  <a:pt x="14560" y="10815"/>
                </a:cubicBezTo>
                <a:cubicBezTo>
                  <a:pt x="14517" y="10899"/>
                  <a:pt x="14491" y="11032"/>
                  <a:pt x="14560" y="11112"/>
                </a:cubicBezTo>
                <a:cubicBezTo>
                  <a:pt x="14635" y="11199"/>
                  <a:pt x="14700" y="11202"/>
                  <a:pt x="14759" y="11137"/>
                </a:cubicBezTo>
                <a:cubicBezTo>
                  <a:pt x="14802" y="11090"/>
                  <a:pt x="14787" y="11047"/>
                  <a:pt x="14734" y="11013"/>
                </a:cubicBezTo>
                <a:cubicBezTo>
                  <a:pt x="14683" y="10980"/>
                  <a:pt x="14643" y="10988"/>
                  <a:pt x="14585" y="10988"/>
                </a:cubicBezTo>
              </a:path>
              <a:path w="572" h="1191">
                <a:moveTo>
                  <a:pt x="15032" y="11361"/>
                </a:moveTo>
                <a:cubicBezTo>
                  <a:pt x="15019" y="11321"/>
                  <a:pt x="14983" y="11336"/>
                  <a:pt x="14932" y="11336"/>
                </a:cubicBezTo>
                <a:cubicBezTo>
                  <a:pt x="14775" y="11336"/>
                  <a:pt x="14618" y="11336"/>
                  <a:pt x="14461" y="11336"/>
                </a:cubicBezTo>
              </a:path>
              <a:path w="572" h="1191">
                <a:moveTo>
                  <a:pt x="14585" y="11584"/>
                </a:moveTo>
                <a:cubicBezTo>
                  <a:pt x="14569" y="11584"/>
                  <a:pt x="14552" y="11584"/>
                  <a:pt x="14536" y="11584"/>
                </a:cubicBezTo>
                <a:cubicBezTo>
                  <a:pt x="14604" y="11549"/>
                  <a:pt x="14658" y="11515"/>
                  <a:pt x="14734" y="11509"/>
                </a:cubicBezTo>
                <a:cubicBezTo>
                  <a:pt x="14820" y="11502"/>
                  <a:pt x="14773" y="11593"/>
                  <a:pt x="14759" y="11633"/>
                </a:cubicBezTo>
                <a:cubicBezTo>
                  <a:pt x="14737" y="11696"/>
                  <a:pt x="14690" y="11767"/>
                  <a:pt x="14684" y="11832"/>
                </a:cubicBezTo>
                <a:cubicBezTo>
                  <a:pt x="14679" y="11884"/>
                  <a:pt x="14796" y="11880"/>
                  <a:pt x="14833" y="11881"/>
                </a:cubicBezTo>
                <a:cubicBezTo>
                  <a:pt x="14899" y="11881"/>
                  <a:pt x="14916" y="11881"/>
                  <a:pt x="14957" y="11881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3867120"/>
            <a:ext cx="438120" cy="268200"/>
          </a:xfrm>
          <a:custGeom>
            <a:avLst/>
            <a:gdLst/>
            <a:ahLst/>
            <a:rect l="l" t="t" r="r" b="b"/>
            <a:pathLst>
              <a:path w="1216" h="746">
                <a:moveTo>
                  <a:pt x="16197" y="11137"/>
                </a:moveTo>
                <a:cubicBezTo>
                  <a:pt x="16205" y="11137"/>
                  <a:pt x="16214" y="11137"/>
                  <a:pt x="16222" y="11137"/>
                </a:cubicBezTo>
                <a:cubicBezTo>
                  <a:pt x="16182" y="11167"/>
                  <a:pt x="16160" y="11142"/>
                  <a:pt x="16123" y="11162"/>
                </a:cubicBezTo>
                <a:cubicBezTo>
                  <a:pt x="16085" y="11183"/>
                  <a:pt x="16072" y="11187"/>
                  <a:pt x="16024" y="11187"/>
                </a:cubicBezTo>
              </a:path>
              <a:path w="1216" h="746">
                <a:moveTo>
                  <a:pt x="16197" y="11261"/>
                </a:moveTo>
                <a:cubicBezTo>
                  <a:pt x="16239" y="11289"/>
                  <a:pt x="16281" y="11330"/>
                  <a:pt x="16197" y="11336"/>
                </a:cubicBezTo>
                <a:cubicBezTo>
                  <a:pt x="16156" y="11339"/>
                  <a:pt x="16114" y="11336"/>
                  <a:pt x="16073" y="11336"/>
                </a:cubicBezTo>
              </a:path>
              <a:path w="1216" h="746">
                <a:moveTo>
                  <a:pt x="16718" y="10939"/>
                </a:moveTo>
                <a:cubicBezTo>
                  <a:pt x="16673" y="10876"/>
                  <a:pt x="16710" y="10877"/>
                  <a:pt x="16768" y="10840"/>
                </a:cubicBezTo>
                <a:cubicBezTo>
                  <a:pt x="16846" y="10790"/>
                  <a:pt x="16939" y="10716"/>
                  <a:pt x="17041" y="10740"/>
                </a:cubicBezTo>
                <a:cubicBezTo>
                  <a:pt x="17127" y="10760"/>
                  <a:pt x="17130" y="10900"/>
                  <a:pt x="17115" y="10964"/>
                </a:cubicBezTo>
                <a:cubicBezTo>
                  <a:pt x="17096" y="11047"/>
                  <a:pt x="17001" y="11091"/>
                  <a:pt x="16942" y="11137"/>
                </a:cubicBezTo>
                <a:cubicBezTo>
                  <a:pt x="16917" y="11162"/>
                  <a:pt x="16909" y="11170"/>
                  <a:pt x="16892" y="11187"/>
                </a:cubicBezTo>
                <a:cubicBezTo>
                  <a:pt x="16959" y="11241"/>
                  <a:pt x="17033" y="11259"/>
                  <a:pt x="17115" y="11286"/>
                </a:cubicBezTo>
                <a:cubicBezTo>
                  <a:pt x="17207" y="11317"/>
                  <a:pt x="17216" y="11306"/>
                  <a:pt x="17239" y="11385"/>
                </a:cubicBezTo>
                <a:cubicBezTo>
                  <a:pt x="17223" y="11450"/>
                  <a:pt x="17133" y="11477"/>
                  <a:pt x="17066" y="11485"/>
                </a:cubicBezTo>
                <a:cubicBezTo>
                  <a:pt x="16963" y="11498"/>
                  <a:pt x="16847" y="11485"/>
                  <a:pt x="16743" y="11485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rawing a tangent to estimate a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5280" y="2565360"/>
            <a:ext cx="2160720" cy="4292640"/>
            <a:chOff x="395280" y="2565360"/>
            <a:chExt cx="2160720" cy="4292640"/>
          </a:xfrm>
        </p:grpSpPr>
        <p:sp>
          <p:nvSpPr>
            <p:cNvPr id="237" name=""/>
            <p:cNvSpPr/>
            <p:nvPr/>
          </p:nvSpPr>
          <p:spPr>
            <a:xfrm>
              <a:off x="395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6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60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0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22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6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87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25653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84720" y="2565360"/>
            <a:ext cx="4319640" cy="4292640"/>
            <a:chOff x="4284720" y="2565360"/>
            <a:chExt cx="4319640" cy="4292640"/>
          </a:xfrm>
        </p:grpSpPr>
        <p:sp>
          <p:nvSpPr>
            <p:cNvPr id="248" name=""/>
            <p:cNvSpPr/>
            <p:nvPr/>
          </p:nvSpPr>
          <p:spPr>
            <a:xfrm>
              <a:off x="4284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6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65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4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8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200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4364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770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87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0728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892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72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4360" y="2565360"/>
              <a:ext cx="0" cy="42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565360"/>
            <a:ext cx="8351640" cy="4103640"/>
          </a:xfrm>
          <a:custGeom>
            <a:avLst/>
            <a:gdLst/>
            <a:ahLst/>
            <a:rect l="l" t="t" r="r" b="b"/>
            <a:pathLst>
              <a:path w="5261" h="2585">
                <a:moveTo>
                  <a:pt x="0" y="2585"/>
                </a:moveTo>
                <a:cubicBezTo>
                  <a:pt x="366" y="1738"/>
                  <a:pt x="733" y="891"/>
                  <a:pt x="1270" y="816"/>
                </a:cubicBezTo>
                <a:cubicBezTo>
                  <a:pt x="1807" y="741"/>
                  <a:pt x="2555" y="2268"/>
                  <a:pt x="3220" y="2132"/>
                </a:cubicBezTo>
                <a:cubicBezTo>
                  <a:pt x="3885" y="1996"/>
                  <a:pt x="4573" y="998"/>
                  <a:pt x="526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94920" y="3213000"/>
            <a:ext cx="2376360" cy="2448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640" y="3933720"/>
            <a:ext cx="1223640" cy="3095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11280" y="3357360"/>
            <a:ext cx="2952720" cy="1223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3789360"/>
            <a:ext cx="2879640" cy="71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3213000"/>
            <a:ext cx="3311640" cy="3456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157720"/>
            <a:ext cx="2952720" cy="129564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24360" y="5516640"/>
            <a:ext cx="3384360" cy="79200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859280" y="4149360"/>
            <a:ext cx="3168720" cy="2708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24360" y="2852640"/>
            <a:ext cx="2880000" cy="400536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3789360"/>
            <a:ext cx="2016000" cy="2232000"/>
          </a:xfrm>
          <a:prstGeom prst="rtTriangle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3800" y="4786200"/>
            <a:ext cx="385560" cy="258840"/>
          </a:xfrm>
          <a:custGeom>
            <a:avLst/>
            <a:gdLst/>
            <a:ahLst/>
            <a:rect l="l" t="t" r="r" b="b"/>
            <a:pathLst>
              <a:path w="1068" h="721">
                <a:moveTo>
                  <a:pt x="6003" y="13444"/>
                </a:moveTo>
                <a:cubicBezTo>
                  <a:pt x="6040" y="13416"/>
                  <a:pt x="6045" y="13405"/>
                  <a:pt x="6077" y="13395"/>
                </a:cubicBezTo>
                <a:cubicBezTo>
                  <a:pt x="6044" y="13452"/>
                  <a:pt x="6009" y="13497"/>
                  <a:pt x="6028" y="13568"/>
                </a:cubicBezTo>
                <a:cubicBezTo>
                  <a:pt x="6052" y="13659"/>
                  <a:pt x="6121" y="13663"/>
                  <a:pt x="6201" y="13667"/>
                </a:cubicBezTo>
                <a:cubicBezTo>
                  <a:pt x="6294" y="13671"/>
                  <a:pt x="6341" y="13675"/>
                  <a:pt x="6424" y="13717"/>
                </a:cubicBezTo>
                <a:cubicBezTo>
                  <a:pt x="6498" y="13754"/>
                  <a:pt x="6518" y="13811"/>
                  <a:pt x="6524" y="13891"/>
                </a:cubicBezTo>
                <a:cubicBezTo>
                  <a:pt x="6531" y="13975"/>
                  <a:pt x="6437" y="13982"/>
                  <a:pt x="6375" y="13990"/>
                </a:cubicBezTo>
                <a:cubicBezTo>
                  <a:pt x="6291" y="14001"/>
                  <a:pt x="6213" y="14015"/>
                  <a:pt x="6127" y="14015"/>
                </a:cubicBezTo>
                <a:cubicBezTo>
                  <a:pt x="6102" y="14015"/>
                  <a:pt x="6094" y="14015"/>
                  <a:pt x="6077" y="14015"/>
                </a:cubicBezTo>
              </a:path>
              <a:path w="1068" h="721">
                <a:moveTo>
                  <a:pt x="6524" y="13345"/>
                </a:moveTo>
                <a:cubicBezTo>
                  <a:pt x="6524" y="13320"/>
                  <a:pt x="6524" y="13312"/>
                  <a:pt x="6524" y="13295"/>
                </a:cubicBezTo>
                <a:cubicBezTo>
                  <a:pt x="6433" y="13295"/>
                  <a:pt x="6432" y="13320"/>
                  <a:pt x="6350" y="13370"/>
                </a:cubicBezTo>
                <a:cubicBezTo>
                  <a:pt x="6273" y="13416"/>
                  <a:pt x="6210" y="13456"/>
                  <a:pt x="6127" y="13494"/>
                </a:cubicBezTo>
              </a:path>
              <a:path w="1068" h="721">
                <a:moveTo>
                  <a:pt x="5829" y="13593"/>
                </a:moveTo>
                <a:cubicBezTo>
                  <a:pt x="5829" y="13585"/>
                  <a:pt x="5829" y="13576"/>
                  <a:pt x="5829" y="13568"/>
                </a:cubicBezTo>
                <a:cubicBezTo>
                  <a:pt x="5770" y="13568"/>
                  <a:pt x="5777" y="13588"/>
                  <a:pt x="5730" y="13618"/>
                </a:cubicBezTo>
                <a:cubicBezTo>
                  <a:pt x="5672" y="13656"/>
                  <a:pt x="5596" y="13659"/>
                  <a:pt x="5531" y="13692"/>
                </a:cubicBezTo>
                <a:cubicBezTo>
                  <a:pt x="5491" y="13712"/>
                  <a:pt x="5485" y="13721"/>
                  <a:pt x="5457" y="13717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7960" y="6089760"/>
            <a:ext cx="260280" cy="20628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1286" y="16942"/>
                </a:moveTo>
                <a:cubicBezTo>
                  <a:pt x="11270" y="16895"/>
                  <a:pt x="11237" y="16927"/>
                  <a:pt x="11212" y="16966"/>
                </a:cubicBezTo>
                <a:cubicBezTo>
                  <a:pt x="11180" y="17015"/>
                  <a:pt x="11175" y="17082"/>
                  <a:pt x="11237" y="17115"/>
                </a:cubicBezTo>
                <a:cubicBezTo>
                  <a:pt x="11348" y="17174"/>
                  <a:pt x="11475" y="17110"/>
                  <a:pt x="11584" y="17190"/>
                </a:cubicBezTo>
                <a:cubicBezTo>
                  <a:pt x="11635" y="17227"/>
                  <a:pt x="11698" y="17321"/>
                  <a:pt x="11683" y="17388"/>
                </a:cubicBezTo>
                <a:cubicBezTo>
                  <a:pt x="11666" y="17464"/>
                  <a:pt x="11600" y="17484"/>
                  <a:pt x="11534" y="17487"/>
                </a:cubicBezTo>
                <a:cubicBezTo>
                  <a:pt x="11426" y="17492"/>
                  <a:pt x="11338" y="17479"/>
                  <a:pt x="11237" y="17438"/>
                </a:cubicBezTo>
                <a:cubicBezTo>
                  <a:pt x="11187" y="17413"/>
                  <a:pt x="11170" y="17405"/>
                  <a:pt x="11162" y="17363"/>
                </a:cubicBezTo>
              </a:path>
              <a:path w="720" h="571">
                <a:moveTo>
                  <a:pt x="11881" y="16966"/>
                </a:moveTo>
                <a:cubicBezTo>
                  <a:pt x="11881" y="16938"/>
                  <a:pt x="11879" y="16928"/>
                  <a:pt x="11857" y="16917"/>
                </a:cubicBezTo>
                <a:cubicBezTo>
                  <a:pt x="11777" y="16933"/>
                  <a:pt x="11694" y="16958"/>
                  <a:pt x="11609" y="16966"/>
                </a:cubicBezTo>
                <a:cubicBezTo>
                  <a:pt x="11534" y="16966"/>
                  <a:pt x="11510" y="16966"/>
                  <a:pt x="11460" y="16966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97280" y="3473280"/>
            <a:ext cx="250920" cy="474840"/>
          </a:xfrm>
          <a:custGeom>
            <a:avLst/>
            <a:gdLst/>
            <a:ahLst/>
            <a:rect l="l" t="t" r="r" b="b"/>
            <a:pathLst>
              <a:path w="696" h="1316">
                <a:moveTo>
                  <a:pt x="13122" y="9773"/>
                </a:moveTo>
                <a:cubicBezTo>
                  <a:pt x="13122" y="9718"/>
                  <a:pt x="13141" y="9684"/>
                  <a:pt x="13122" y="9674"/>
                </a:cubicBezTo>
                <a:cubicBezTo>
                  <a:pt x="13098" y="9705"/>
                  <a:pt x="13057" y="9753"/>
                  <a:pt x="13072" y="9798"/>
                </a:cubicBezTo>
                <a:cubicBezTo>
                  <a:pt x="13092" y="9859"/>
                  <a:pt x="13161" y="9889"/>
                  <a:pt x="13221" y="9897"/>
                </a:cubicBezTo>
                <a:cubicBezTo>
                  <a:pt x="13304" y="9908"/>
                  <a:pt x="13363" y="9902"/>
                  <a:pt x="13395" y="9996"/>
                </a:cubicBezTo>
                <a:cubicBezTo>
                  <a:pt x="13415" y="10055"/>
                  <a:pt x="13338" y="10088"/>
                  <a:pt x="13295" y="10096"/>
                </a:cubicBezTo>
                <a:cubicBezTo>
                  <a:pt x="13231" y="10107"/>
                  <a:pt x="13180" y="10083"/>
                  <a:pt x="13122" y="10071"/>
                </a:cubicBezTo>
              </a:path>
              <a:path w="696" h="1316">
                <a:moveTo>
                  <a:pt x="13494" y="9723"/>
                </a:moveTo>
                <a:cubicBezTo>
                  <a:pt x="13502" y="9698"/>
                  <a:pt x="13511" y="9674"/>
                  <a:pt x="13519" y="9649"/>
                </a:cubicBezTo>
                <a:cubicBezTo>
                  <a:pt x="13422" y="9649"/>
                  <a:pt x="13336" y="9644"/>
                  <a:pt x="13246" y="9674"/>
                </a:cubicBezTo>
              </a:path>
              <a:path w="696" h="1316">
                <a:moveTo>
                  <a:pt x="13742" y="10220"/>
                </a:moveTo>
                <a:cubicBezTo>
                  <a:pt x="13695" y="10254"/>
                  <a:pt x="13654" y="10244"/>
                  <a:pt x="13593" y="10244"/>
                </a:cubicBezTo>
                <a:cubicBezTo>
                  <a:pt x="13473" y="10244"/>
                  <a:pt x="13364" y="10224"/>
                  <a:pt x="13246" y="10220"/>
                </a:cubicBezTo>
                <a:cubicBezTo>
                  <a:pt x="13187" y="10218"/>
                  <a:pt x="13118" y="10214"/>
                  <a:pt x="13072" y="10244"/>
                </a:cubicBezTo>
                <a:cubicBezTo>
                  <a:pt x="13064" y="10252"/>
                  <a:pt x="13055" y="10261"/>
                  <a:pt x="13047" y="10269"/>
                </a:cubicBezTo>
              </a:path>
              <a:path w="696" h="1316">
                <a:moveTo>
                  <a:pt x="13370" y="10542"/>
                </a:moveTo>
                <a:cubicBezTo>
                  <a:pt x="13311" y="10512"/>
                  <a:pt x="13325" y="10546"/>
                  <a:pt x="13295" y="10592"/>
                </a:cubicBezTo>
                <a:cubicBezTo>
                  <a:pt x="13254" y="10654"/>
                  <a:pt x="13276" y="10685"/>
                  <a:pt x="13345" y="10716"/>
                </a:cubicBezTo>
                <a:cubicBezTo>
                  <a:pt x="13424" y="10751"/>
                  <a:pt x="13493" y="10748"/>
                  <a:pt x="13568" y="10790"/>
                </a:cubicBezTo>
                <a:cubicBezTo>
                  <a:pt x="13616" y="10817"/>
                  <a:pt x="13677" y="10872"/>
                  <a:pt x="13643" y="10939"/>
                </a:cubicBezTo>
                <a:cubicBezTo>
                  <a:pt x="13623" y="10979"/>
                  <a:pt x="13506" y="10974"/>
                  <a:pt x="13469" y="10964"/>
                </a:cubicBezTo>
                <a:cubicBezTo>
                  <a:pt x="13417" y="10949"/>
                  <a:pt x="13371" y="10933"/>
                  <a:pt x="13320" y="10914"/>
                </a:cubicBezTo>
              </a:path>
              <a:path w="696" h="1316">
                <a:moveTo>
                  <a:pt x="13692" y="10666"/>
                </a:moveTo>
                <a:cubicBezTo>
                  <a:pt x="13709" y="10649"/>
                  <a:pt x="13725" y="10633"/>
                  <a:pt x="13742" y="10616"/>
                </a:cubicBezTo>
                <a:cubicBezTo>
                  <a:pt x="13656" y="10616"/>
                  <a:pt x="13573" y="10627"/>
                  <a:pt x="13494" y="10592"/>
                </a:cubicBezTo>
                <a:cubicBezTo>
                  <a:pt x="13477" y="10584"/>
                  <a:pt x="13461" y="10575"/>
                  <a:pt x="13444" y="10567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0040" y="368784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14635" y="10368"/>
                </a:moveTo>
                <a:cubicBezTo>
                  <a:pt x="14552" y="10368"/>
                  <a:pt x="14470" y="10368"/>
                  <a:pt x="14387" y="10368"/>
                </a:cubicBezTo>
              </a:path>
              <a:path w="869" h="572">
                <a:moveTo>
                  <a:pt x="14635" y="10517"/>
                </a:moveTo>
                <a:cubicBezTo>
                  <a:pt x="14661" y="10535"/>
                  <a:pt x="14729" y="10582"/>
                  <a:pt x="14660" y="10616"/>
                </a:cubicBezTo>
                <a:cubicBezTo>
                  <a:pt x="14617" y="10637"/>
                  <a:pt x="14503" y="10606"/>
                  <a:pt x="14461" y="10592"/>
                </a:cubicBezTo>
                <a:cubicBezTo>
                  <a:pt x="14421" y="10572"/>
                  <a:pt x="14415" y="10563"/>
                  <a:pt x="14387" y="10567"/>
                </a:cubicBezTo>
              </a:path>
              <a:path w="869" h="572">
                <a:moveTo>
                  <a:pt x="15156" y="10418"/>
                </a:moveTo>
                <a:cubicBezTo>
                  <a:pt x="15192" y="10367"/>
                  <a:pt x="15213" y="10336"/>
                  <a:pt x="15255" y="10294"/>
                </a:cubicBezTo>
                <a:cubicBezTo>
                  <a:pt x="15255" y="10366"/>
                  <a:pt x="15248" y="10421"/>
                  <a:pt x="15230" y="10492"/>
                </a:cubicBezTo>
                <a:cubicBezTo>
                  <a:pt x="15202" y="10602"/>
                  <a:pt x="15205" y="10702"/>
                  <a:pt x="15205" y="10815"/>
                </a:cubicBezTo>
              </a:path>
              <a:path w="869" h="572">
                <a:moveTo>
                  <a:pt x="14932" y="10269"/>
                </a:moveTo>
                <a:cubicBezTo>
                  <a:pt x="14868" y="10253"/>
                  <a:pt x="14892" y="10249"/>
                  <a:pt x="14833" y="10269"/>
                </a:cubicBezTo>
                <a:cubicBezTo>
                  <a:pt x="14790" y="10283"/>
                  <a:pt x="14801" y="10262"/>
                  <a:pt x="14759" y="10294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19240" y="4402080"/>
            <a:ext cx="1260720" cy="9208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9599" y="12229"/>
                </a:moveTo>
                <a:cubicBezTo>
                  <a:pt x="9599" y="12313"/>
                  <a:pt x="9610" y="12382"/>
                  <a:pt x="9624" y="12452"/>
                </a:cubicBezTo>
                <a:cubicBezTo>
                  <a:pt x="9634" y="12501"/>
                  <a:pt x="9641" y="12560"/>
                  <a:pt x="9649" y="12601"/>
                </a:cubicBezTo>
                <a:cubicBezTo>
                  <a:pt x="9660" y="12654"/>
                  <a:pt x="9668" y="12731"/>
                  <a:pt x="9674" y="12774"/>
                </a:cubicBezTo>
                <a:cubicBezTo>
                  <a:pt x="9709" y="13019"/>
                  <a:pt x="9652" y="13286"/>
                  <a:pt x="9699" y="13519"/>
                </a:cubicBezTo>
                <a:cubicBezTo>
                  <a:pt x="9718" y="13614"/>
                  <a:pt x="9706" y="13728"/>
                  <a:pt x="9723" y="13816"/>
                </a:cubicBezTo>
                <a:cubicBezTo>
                  <a:pt x="9733" y="13866"/>
                  <a:pt x="9740" y="13924"/>
                  <a:pt x="9748" y="13965"/>
                </a:cubicBezTo>
                <a:cubicBezTo>
                  <a:pt x="9754" y="13993"/>
                  <a:pt x="9748" y="14034"/>
                  <a:pt x="9748" y="14064"/>
                </a:cubicBezTo>
              </a:path>
              <a:path w="3499" h="2556">
                <a:moveTo>
                  <a:pt x="11609" y="14238"/>
                </a:moveTo>
                <a:cubicBezTo>
                  <a:pt x="11601" y="14238"/>
                  <a:pt x="11592" y="14238"/>
                  <a:pt x="11584" y="14238"/>
                </a:cubicBezTo>
                <a:cubicBezTo>
                  <a:pt x="11560" y="14252"/>
                  <a:pt x="11562" y="14260"/>
                  <a:pt x="11509" y="14263"/>
                </a:cubicBezTo>
                <a:cubicBezTo>
                  <a:pt x="11360" y="14272"/>
                  <a:pt x="11196" y="14263"/>
                  <a:pt x="11063" y="14238"/>
                </a:cubicBezTo>
                <a:cubicBezTo>
                  <a:pt x="10974" y="14221"/>
                  <a:pt x="10870" y="14229"/>
                  <a:pt x="10790" y="14213"/>
                </a:cubicBezTo>
                <a:cubicBezTo>
                  <a:pt x="10745" y="14204"/>
                  <a:pt x="10730" y="14232"/>
                  <a:pt x="10691" y="14238"/>
                </a:cubicBezTo>
                <a:cubicBezTo>
                  <a:pt x="10597" y="14254"/>
                  <a:pt x="10497" y="14225"/>
                  <a:pt x="10418" y="14213"/>
                </a:cubicBezTo>
                <a:cubicBezTo>
                  <a:pt x="10373" y="14206"/>
                  <a:pt x="10329" y="14195"/>
                  <a:pt x="10294" y="14188"/>
                </a:cubicBezTo>
                <a:cubicBezTo>
                  <a:pt x="10196" y="14169"/>
                  <a:pt x="10080" y="14196"/>
                  <a:pt x="9996" y="14213"/>
                </a:cubicBezTo>
                <a:cubicBezTo>
                  <a:pt x="9943" y="14224"/>
                  <a:pt x="9877" y="14213"/>
                  <a:pt x="9823" y="14213"/>
                </a:cubicBezTo>
              </a:path>
              <a:path w="3499" h="2556">
                <a:moveTo>
                  <a:pt x="8632" y="12998"/>
                </a:moveTo>
                <a:cubicBezTo>
                  <a:pt x="8632" y="13047"/>
                  <a:pt x="8640" y="12948"/>
                  <a:pt x="8657" y="12923"/>
                </a:cubicBezTo>
                <a:cubicBezTo>
                  <a:pt x="8685" y="12881"/>
                  <a:pt x="8710" y="12874"/>
                  <a:pt x="8756" y="12874"/>
                </a:cubicBezTo>
                <a:cubicBezTo>
                  <a:pt x="8764" y="12874"/>
                  <a:pt x="8773" y="12874"/>
                  <a:pt x="8781" y="12874"/>
                </a:cubicBezTo>
                <a:cubicBezTo>
                  <a:pt x="8781" y="12956"/>
                  <a:pt x="8782" y="13020"/>
                  <a:pt x="8756" y="13097"/>
                </a:cubicBezTo>
                <a:cubicBezTo>
                  <a:pt x="8735" y="13159"/>
                  <a:pt x="8679" y="13250"/>
                  <a:pt x="8706" y="13320"/>
                </a:cubicBezTo>
                <a:cubicBezTo>
                  <a:pt x="8727" y="13375"/>
                  <a:pt x="8801" y="13334"/>
                  <a:pt x="8830" y="13320"/>
                </a:cubicBezTo>
                <a:cubicBezTo>
                  <a:pt x="8847" y="13312"/>
                  <a:pt x="8863" y="13303"/>
                  <a:pt x="8880" y="13295"/>
                </a:cubicBezTo>
              </a:path>
              <a:path w="3499" h="2556">
                <a:moveTo>
                  <a:pt x="10616" y="14560"/>
                </a:moveTo>
                <a:cubicBezTo>
                  <a:pt x="10592" y="14560"/>
                  <a:pt x="10583" y="14560"/>
                  <a:pt x="10567" y="14560"/>
                </a:cubicBezTo>
                <a:cubicBezTo>
                  <a:pt x="10580" y="14511"/>
                  <a:pt x="10599" y="14504"/>
                  <a:pt x="10641" y="14486"/>
                </a:cubicBezTo>
                <a:cubicBezTo>
                  <a:pt x="10682" y="14466"/>
                  <a:pt x="10688" y="14457"/>
                  <a:pt x="10716" y="14461"/>
                </a:cubicBezTo>
                <a:cubicBezTo>
                  <a:pt x="10752" y="14511"/>
                  <a:pt x="10743" y="14526"/>
                  <a:pt x="10716" y="14585"/>
                </a:cubicBezTo>
                <a:cubicBezTo>
                  <a:pt x="10703" y="14613"/>
                  <a:pt x="10654" y="14704"/>
                  <a:pt x="10666" y="14734"/>
                </a:cubicBezTo>
                <a:cubicBezTo>
                  <a:pt x="10691" y="14797"/>
                  <a:pt x="10762" y="14784"/>
                  <a:pt x="10815" y="14784"/>
                </a:cubicBezTo>
                <a:cubicBezTo>
                  <a:pt x="10899" y="14784"/>
                  <a:pt x="10959" y="14761"/>
                  <a:pt x="11038" y="14734"/>
                </a:cubicBezTo>
              </a:path>
              <a:path w="3499" h="2556">
                <a:moveTo>
                  <a:pt x="8334" y="13047"/>
                </a:moveTo>
                <a:cubicBezTo>
                  <a:pt x="8342" y="13047"/>
                  <a:pt x="8351" y="13047"/>
                  <a:pt x="8359" y="13047"/>
                </a:cubicBezTo>
                <a:cubicBezTo>
                  <a:pt x="8346" y="13007"/>
                  <a:pt x="8311" y="13022"/>
                  <a:pt x="8260" y="13022"/>
                </a:cubicBezTo>
                <a:cubicBezTo>
                  <a:pt x="8192" y="13022"/>
                  <a:pt x="8155" y="13078"/>
                  <a:pt x="8111" y="13122"/>
                </a:cubicBezTo>
              </a:path>
            </a:pathLst>
          </a:custGeom>
          <a:noFill/>
          <a:ln cap="rnd" w="3492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0:07:40Z</dcterms:created>
  <dc:creator>N Holden</dc:creator>
  <dc:description/>
  <dc:language>en-US</dc:language>
  <cp:lastModifiedBy>N Holden</cp:lastModifiedBy>
  <dcterms:modified xsi:type="dcterms:W3CDTF">2009-02-17T10:44:45Z</dcterms:modified>
  <cp:revision>5</cp:revision>
  <dc:subject/>
  <dc:title>IGCSE Revision Lesson 3</dc:title>
</cp:coreProperties>
</file>